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9.png" ContentType="image/png"/>
  <Override PartName="/ppt/media/image17.wmf" ContentType="image/x-wmf"/>
  <Override PartName="/ppt/media/start.wav" ContentType="audio/x-wav"/>
  <Override PartName="/ppt/media/image7.png" ContentType="image/png"/>
  <Override PartName="/ppt/media/image10.png" ContentType="image/png"/>
  <Override PartName="/ppt/media/image5.png" ContentType="image/png"/>
  <Override PartName="/ppt/media/image25.gif" ContentType="image/gif"/>
  <Override PartName="/ppt/media/image2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3.png" ContentType="image/png"/>
  <Override PartName="/ppt/media/image23.gif" ContentType="image/gif"/>
  <Override PartName="/ppt/media/image14.png" ContentType="image/png"/>
  <Override PartName="/ppt/media/image2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F43A7-51AE-436D-8C60-BCA1110E86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97279-5D0C-4C9D-BDB5-EFC05880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9FCFEB-3D8E-494A-AC9D-8D0F207E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54EFFB-A607-45B4-BE88-BCF397B9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1F4472-4991-4F18-A0E4-87FAC54C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83A367-F065-41DC-B767-1740EB5F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AD73CF-D929-401D-8D7C-8C4F9F5C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2750FE-9156-4B1B-953F-2E046B83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B925C4-5B9C-45EB-A527-06CF2C30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EFA033-70D1-4DB4-9A6C-A1129A30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6CC4AE-50AD-4C40-A03D-CB7A450077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E54CD-2795-4797-8924-DE5CCE7505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C518C-BE09-4352-A9EB-35DA7428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3D430-86AD-4732-A945-9EF18C00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6F308-3413-444E-B369-659ABBAE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F5CF7-6BDD-4053-8462-B429D105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5CE41-A5A2-44DB-9B80-C132A03F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EF17F-85B1-47AA-A12B-3E40C1CF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83D6A-3743-43BE-A35D-211EDA34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2163F-FE55-4FA4-9457-EA083E1E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39056-4FE4-465C-BCE2-400029EF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E0994-379D-405E-9C9A-15656AFB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F9ACE-A09D-485B-90C9-A04B992D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4BFCA-EDCA-4444-8C3B-23342A4289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B402E-10EA-4FFA-B6FE-7321823868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1EC791-ED4C-4AFD-8ADE-51BFD68676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557711-A464-4BCF-892D-01D14518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BB0945-4676-462D-A45B-00B78A24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44D6FA-5F70-4955-AB87-470B4BCE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D33642-846F-4D93-8437-DE8AC176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2C0B96-3E11-4A3F-BB8F-2CF0A1AD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ECA876-6F2D-46BE-B09E-CAAA1693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A309A8-1793-4FBE-B060-96AF9359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27569A-8A6B-45E9-8AB0-67292BE0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84B95-DF20-4683-A4FD-D5E6084777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585622-8F3F-4E09-8044-780864BF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7D08CB-0121-4EDE-BAEE-DA4065C8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446983-2772-424E-A9D4-AA412B5885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200EB5-39E6-4B36-AC6E-BF40F9E137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78B3EB-63D2-450B-8D1F-4479D138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0FC5A-60F7-48F5-B833-34DADF03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55C6AA-C2B8-4225-83F2-8482A153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03BA6B-845C-4243-9914-3DE8FA3A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FA66EF-D6E9-4A19-9518-33519F64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1C4CB-A599-4398-B079-6427C043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FC018-B95C-4060-8B79-3B9506F8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083AB0-4C4D-48ED-A039-AE43ADC4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5A1EC-8D73-485A-A3B2-1DE9D62C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2785E-3779-4938-95F6-2C2F4D35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93771A-786A-4DF3-ABA5-ED3FEC01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98D61-FADD-416E-9301-CB28AB0B0D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AC5B4-7D74-4921-ABA9-C51A165206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EED06-8C91-4D52-97AE-FDD7CC85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783FD-0684-4C32-A71C-7437C575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A22E7-599D-4981-BB7B-F193BCD4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79410-4203-402E-8EF3-5A3F32DA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EE6AC-EAA5-4F58-AC80-84410FDF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BEADB-FE66-43E2-989A-DD1811DA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1B85A-404B-4C8C-BDA0-134359CF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A0C71-E33B-4934-8147-14E42A01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34D3E-7519-4403-8005-54EA30AC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F7F42-DBD6-4988-A9B0-79CA1B39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38DAA-974D-4961-9DCB-2F57BAE9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35E59-BDA6-4836-A65A-5C31CBD3B9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4740E3-FC80-4E09-829E-460B233751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EF6397-0908-4177-B918-41CDD1FA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545B0C-3AB9-4259-ABE2-C8A7B734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8B805-BC30-4607-8D2A-929E60B0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A9E27E-7C88-4CFC-9454-944C3425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C4DE2D-0580-4FEA-A7D9-BEA4B9CF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1782CB-6F33-449B-AAAA-41D78052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2C6B4B-F118-4044-A693-4E1D2FCA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DCDB2A-67A8-4D8B-B1AC-0663D591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7BB73F-A4D4-4246-B5B5-3247FF4E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59E8C2-B44A-4C13-BA6D-B8D8BEDE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CBFC32-57D7-4391-9A1B-196CB601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DFD94B-4437-4568-8092-8FB26EC496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6E5FD2-5CA2-4D10-8855-501570B74E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27DEF-F278-4BF6-BFDD-39789056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93362A-B944-47D6-A544-4042746A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F35C4A-63ED-4FE5-B843-F715DCDB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96149F-2152-498E-AB32-9F140526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826EB2-5E30-429D-AD9E-5DF4405A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62B7DA-7BBD-4193-9A7B-B77B0191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2EC25A-7E54-40B6-A113-FF52AB43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2D63CC-8B24-4359-94BB-D74F2748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983302-C230-42DD-8065-063BA95E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F2CD5F-5DE9-498B-91B9-9A31F20F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3009B5-0B03-4E22-AB55-DD3EDA1E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A747C-A1DD-494D-A6C8-1C31C9C0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1EDEED-EEF3-41C0-B838-86F7AEE3CE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41CCD-636C-4637-8A82-B61BBA2D43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EF1B4-4F3C-4631-B8BD-731EC1B5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2D4CA-9D5D-4CF6-BCF1-C4DFF249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C0E2D-442E-4B5C-AF2B-FB69EC59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01A43-50BC-4500-ADEE-A828E435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A2A2D-B204-448E-A942-F30B4238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C179E-031C-4F75-8B4B-F70B30ED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15392-A724-4C0C-95C2-118A89BF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73ADB-6A5D-4F1B-9104-FCFB5C09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D4442-9A1E-487B-93BE-C7C77686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53BEE-6665-429F-91E9-F069CFF5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0FBEE-34AE-48C2-BC40-24A163CE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8B586-7CB3-4133-9EF6-BB59246DAE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5509FF-EFF4-4B18-8ABD-A601D0CEA2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55040B-B438-417F-8E0F-83598142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0231C8-841E-4DD0-9803-555E86BE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2B048F-237B-4866-B967-3BA16FBD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131189-80B0-4A76-BCFD-717FB580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DDD2D6-3752-4D2F-A526-283DD10B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6D0C12-BB7A-4B51-BAA6-7E34331F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E9888-371C-48BA-83A5-BA08F614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EA9FC-D9AA-45FC-A6B8-E789E8C8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209544-A374-482E-8D50-4AD6D8DD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3B28F4-D076-4238-9117-50927A8D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518239-3501-47AF-93B3-63158FE1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9E1F11-8488-4A7B-8D8A-3DD8490F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182794-7E5E-4543-82AA-43CC6F253C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90D55A-5BEF-41D9-86A1-EBEA6D5B97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8CCF28-A619-4E35-B8B9-A7AD2B41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B18A80-8D87-4E7F-9936-17261D77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D20DAF-DCC8-4C39-94BD-5EC2E21C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70BA5C-89C2-499C-86F5-937AE11B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146DD-69F7-4608-9540-44B0174E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95CCDC-89EE-49F7-AD72-7E3B7AA1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FACABD6-6DC9-4664-9B7F-A5951025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90545B-4D30-4B16-BE26-9D9E82F3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496B43-6C7D-4269-8B47-0086DBBA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63EDF9-273D-4867-8386-90720768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62F5A09-D57A-46AB-A7F2-98DAA773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B16CC9D-C4B0-499D-83A6-0E45492A0F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7A368A-4658-4DFD-8497-B659F61F5E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DE7C8E-6FD6-4C26-8AC8-FD78ACD7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7FCB34-289F-4BD1-BC11-0D443021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FD79A-CC4D-4ADF-B791-B3047563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56B302-33E0-4DB6-8666-1C8372BB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07885-AE35-422B-BD12-87E54BEB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412AF7-3D47-440A-98AB-8235EDA1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BA6CD-FD11-4653-86CB-EFE8676A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07848-46CB-49D2-9D83-635F1ADB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54418-A186-4FB3-8246-81568DF1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3B4911-3F2F-4719-AC9F-7431BDAE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D5476-8516-4589-A43D-1B981A30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50FBBB-E897-41AA-AFDA-0C5807074F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D861973-A279-4FD2-A867-654451855B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45830-B97B-417C-9E15-A5B9B383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0F36DAF-83D9-486E-9026-D0D89A12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9E4DE7-3EAE-48F1-8383-1919C274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3ACE62-DFB3-4CE9-8846-89FDA7F8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F8B6B91-C0D3-42F5-9C09-33437DED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F98605-1685-4BE3-83CC-E2729EF7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8F613CD-28A0-49B6-A1B3-259E4E5F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1E3BE17-5300-4C7E-B6E7-63ED4D89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B3FE645-BC15-4D87-B261-04B7AE82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94C2298-A61A-4F5F-8129-76AFC992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56EBB1-34B5-4BC7-A7B7-D6C194F8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2416A-13FB-4FEC-B31E-291932EFA9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1F2005-BCFB-4047-8DD7-9049219B8A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A09CFF7-109B-45CB-A41D-D0688D05A1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455B591-D4C4-4881-80A1-13D4CD0B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64975C6-4D1A-4911-9941-150D07A9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F23FC51-E871-4E42-A780-CDC70E2D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F4AA64D-1431-4173-B6A9-62DCC437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978A723-99D6-4FB1-BCB8-90ABBB26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A43A7D9-C52A-499C-BFB5-3095C0AB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77F12F4-B01E-45F0-83AC-67C18DC5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8028464-03DC-446F-9E6C-16EF8405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49A7B8-7EB3-4191-AD6E-3E4EAADD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FFD6E4-9F65-46A6-9AA7-59DEF339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2A95A5B-4DC2-4DA2-A463-7A217F03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21577E5-DF51-40E0-8D51-B6264C9E38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0804A3-4EC4-4E76-B541-9D4B9D0F48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D5A303-E389-4A81-82AA-BE808996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B1B9CE-0D06-43F3-9CD8-63F6CD10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0E8975-F660-4A56-A819-069054ED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34BA51-E628-42E3-B905-28410B26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C82DAF-BD8F-4500-A9C2-0C612D4D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4EF187-152F-47F7-AC63-B65FB9C7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5E9803-A478-46BD-B142-53606764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01CB7-D841-4618-A1F4-1AB24AED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61B805-D0DF-4C2B-A58E-2B1C5CA1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F85A4D-AACE-45B5-92F6-7169B3D9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598C6E-E084-4757-A4BF-448766DC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CFF2B0-EF45-4491-813C-DF525D77F6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9ED6756-556C-419F-B211-6792C2B016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1091EEC-9B5C-4AF2-B08D-BA1D37FE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F7CC0F-F8DD-4B38-A229-50FBA97C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016E22D-286F-487A-BBD8-C39A934A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394907F-FCD4-4D11-A2E8-E7028FEF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F66444-AF97-476B-966B-C759CDF9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225893-EF08-44A5-87C3-EA9DFB43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293DFF1-5BF0-4C4E-93EC-59A8EC4B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8C4FE85-F2F2-416B-9712-DF1828CC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9F411FC-B11A-4E8F-8E92-2665B496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49A8202-38DB-4DE0-BF16-B902B64A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C506CC7-8EAC-4210-B8F2-A123E551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8F3FD49-ABA4-4F19-AF23-CBA2F4E6EF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F3EA6E1-7A89-4259-BF79-6E26B550C8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3476343-BE4B-4097-9639-FEC9DD80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EE298C7-66F0-4D17-AF4F-297B4594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401F72-0A02-4D5D-BA58-A7FA1C4E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6BB8AC8-A163-4A62-AAEF-6DE15EAD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9DE9BE1-F2E7-4421-99CA-A0C4DE0C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E0CBD70-98DB-443A-A21F-E053F7E1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469BD8A-10D0-47DE-93DB-3F21C34D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103BD8B-DC8B-4C3E-B6E7-D735E53A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E124589-6F42-4EEC-B371-696F123E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F2E9A4C-8AA7-49F8-9E24-C820B2EF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68DC012-A922-4B9D-ADD3-208DEC24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2BB2EE7-482B-49AC-87E3-9244021B24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FF0634-31BF-4383-80F9-D7151A1AC7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C5327E-6F0C-44C1-950C-BEF118C3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F94861-6A88-4342-8F97-43A15A76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9F570C-57C6-4621-81AD-028DE79F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DA295A-0C1F-4F20-B0AD-DF9911AB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508E73-FA8A-480C-AF74-325493E2A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1F97C1-50C2-448E-8BA9-D9E8965B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651085-08F5-4005-83A9-D1BCF209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DBEDED-1A40-4876-BBD0-D7AB5E11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67DAF7-D3FB-4515-AA34-84F4ED5B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3F9E63-2764-4E09-BEAD-90411E23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5B7EDA-4790-44EE-A5EC-9F899B44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06986-6301-4529-93B7-64A6E3AA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264EF6-5EDB-41F3-A497-807BF387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FA4477-C433-48E8-91D2-B113240950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B0C9D2-2C5D-460B-AF85-2B47B521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38213D-E35D-46C6-851D-D4B24FB0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C77B09-8F0C-41EF-B88B-8A5FFBA6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B56311-FB54-4E9E-9977-243D2C31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F1EC09-DF77-4DCF-984F-9ED03B9B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02BFB6-138B-4427-82A8-BC6434D7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3384E5-8A29-490C-89F4-5D8A5C9F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4B311A-3145-43DC-B9D7-E3F3AE3A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D2E636-68A2-481C-8B76-C81ABD14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4767DF-CAB8-4225-BECA-08640DE2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D851CD-F1FA-4D9E-8F90-0393775B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27FA10-8610-4551-BAA6-7CBA8214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AEE623-2CDD-40D1-8353-E47B1B86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EA1782-DC66-4D9C-8A86-034BC40F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835B84-41CB-4D13-9FE3-89756222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99BE75-E371-4A29-B5CC-E0EA73E6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6D11BE-CDFD-474C-A7EC-F9E989F9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A1C986-A4AE-4A53-AC8D-77BAD79E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E4931F-B87F-46B8-8D17-ACB4F8B2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DD46D0-03D7-41FF-8E58-B899787B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7A222D-E371-435F-87FD-DF32A3E4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AE2D7B-88E8-4893-97B0-9DE1DE16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2DB7C2-2EA9-4A22-B504-4FCBDE61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0231F4-DF76-4F9D-A685-D3A63ACE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5EEAFA-7D0D-428C-AE06-6A69353A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48925C-C8CB-493D-B679-B4BBBED9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94479D-F6D5-44F8-8C23-69693D63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7EE5DD-87A5-4206-BF71-BC134C01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304EF0-EF4A-41B7-A203-43059B2D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86811B-65BA-43D6-9CA2-3C2550FE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86615D-20B4-4CF2-B388-4851F9A8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DE39F9-E3F7-4F62-ACDF-9900255D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A40040-827B-4B56-B97C-E84AB0EF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4C7E5E-1FCA-4927-8E37-7D519E5E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707286-6D5E-483A-A732-2B95DE9D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358B88-413C-4391-811B-3901E336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5E137D-16EA-4C47-9E1C-114E7C13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07B7E9-4E8D-4C7E-B3E3-5E9D6B36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DF8967-B163-4618-9A93-0762BDCE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F013B1-99A9-4B5E-BD68-F08CF7EC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C60419-9A4C-4F6D-A4A8-D83080A3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A8451E-2756-46CF-8D11-D72ABC3B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E5F775-7EEE-467D-B396-DB43B4E2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70278C-5CF4-4C17-90A5-BC62A121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3AF442-5E68-44D4-ABA4-F0130118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3B93D3-875F-4814-B0BE-9FD7303D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52B2F6-E966-471B-A18A-3613E4E7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B1179D-57E4-401D-933A-10829512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829603-661C-4ECF-AFA7-3C5B0A05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1DAC08-D6AF-4754-8C9F-C02B2237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D9FBAE-0342-4071-B06D-2CCCB93C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EF6A09-F5B0-4574-9248-04ED4115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57E8C2-D71E-4B1E-9D0B-EC546ECF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A3316A-97CF-4CA7-B302-04939817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14D9B9-37FF-40E3-9522-AA2DC984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BA60FA-41DF-488F-9576-B16D7508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0A3CCF-0A88-4A50-9C55-600EE038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56E75D-2A63-4EC5-A19A-CF638733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64D643-D87C-4681-85FC-6D00B52A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0CE996-F1F9-419D-AA50-6884D925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FEB7D1-70AD-4ED7-A15E-5DCA5F4F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F19B68-4CA6-47D9-B6D9-4164DA95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750B5A-11FF-4B85-82F9-4FA3B91B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F0D1EE-2166-4D84-8F2F-6C490A98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2F89D0-7FEF-4DF5-924C-6088EBFD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FA5379-6F05-4D16-9BDE-D9DD83F3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C84E55-DA11-4301-9BB1-9F5AFF19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71F054-F1E7-4A89-BA7C-C44B4472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3A5E73-7D6C-4056-A939-3A0411FD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FBA46D-6921-49F0-A736-EFCE6A3A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4409E4-B090-49ED-8F59-F9B20173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2EFDB9-ED95-4EB9-BD0C-185DFFE6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CB0D25-013F-4D8B-955E-7297C2AA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AE823A-F0AB-4F14-AC75-0456868D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CB13F5-9E51-4D3E-95DB-0378F750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6C0F6-76C6-4FD1-8CDD-0CE51DED32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805504-0B43-49D2-A1FA-B827A7C3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88F148-EFCD-45D6-890E-EA2406BE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3F5A4C-3DA7-410D-ACD6-AE464020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144ADF-F494-4749-A006-AE8F6652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FC8E7B-2FCB-4545-B492-02BAF645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573A73-B189-439F-9CAE-845AB98A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56BAAF-765B-4D6B-9155-8DC145D1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A453EE-B624-489E-8FB7-54810C9F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A4B1B6-8845-4E1B-B7DB-97CF3D32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D44584-27BF-4B4A-9D78-0D26CF5C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B3C98-8EB6-4B84-B4B6-18C9978D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39221B-7A15-4A58-9EE5-FE2205FB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DDA88B-01BB-447E-8DA5-1B6E2F81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2C9F06-8AFC-4A04-9D62-6EC6EBEA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DF6214-F9E1-4B34-8869-083B28A0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BE4D46-19A0-4E0A-AF78-9A54258C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D0C5E3-86A5-47C2-9B62-D53456F6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971B62-F990-4ABD-9F0A-C88D9445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0E0CAA-D9E8-4BA5-B397-4C2C1574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F4C939-F94D-46BD-BA6E-0CDC1F38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313318-702C-4863-9298-19462009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166C6-8262-45C4-84C7-659FC860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92349E-EC7D-49D0-9514-99245BDE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59CE99-D387-45BC-B5D5-83740DED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635FE5-1F47-402F-96BC-0EA12753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737808-DC61-4A3A-93ED-50619138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01B17C-5B2E-4BE5-8B29-92734772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E94643-FF2E-496C-A200-131916FF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514B87-BDDB-4C7B-8C4A-4089A5AE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782F18-D007-4178-9F7D-18C30A94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311126-7AB5-4B5D-AF30-8ADF4F75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A0D8D5-0A2E-4484-A420-5442FBBD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5BDCB-4243-44C2-B273-6CBB5465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20A57-0D5B-4130-B21C-20B93E2F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944A90E-EBD1-4256-BBB6-371F0A72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03E757-C80D-4801-B03D-F00FD343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170BA8-AA6C-44C6-8D75-CFC70845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99EC07-0D9A-427F-9B60-CE87C901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CF23B1-6AF8-4579-A239-27323DB2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12F288-5122-4BF8-BACF-8F5F270C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D0AEEF-5FAE-46EC-B46B-C8AB60E7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3B87ED-846D-4E0B-921D-B19F4574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88F52B-AE0E-445B-B5D5-D110995E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63B589-0DEA-4BD2-B6C0-C2C73182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95D39-B67C-4DF8-970F-D0ED9162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694D75-C8B6-4ACB-8C08-12BF4FA5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F06DA1-6971-4776-A8CA-4EBB6741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D0E887-FB39-44CB-AE65-82236B78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166BBE-9DAE-489F-9971-7643EA6A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10A37C-1D4D-416D-B298-E1B2D596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657873-3937-4613-A22A-3C024A88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01CFF5-1476-4885-B75A-237788FB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7C08B3-9C3B-4364-AE07-98FDAFEE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190190-DB1B-4683-B203-FA362B80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5F01DD-6857-45C2-8C81-4973DED2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9908C-C361-4FE6-8071-B20ED7B8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0EDC1B-2C3B-4B85-A42A-32B0AE7F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2B4A7E-E4AC-4ACC-B08A-C7B0CFAB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0519AC-5766-4D99-8151-84F28FDA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625D7F-C770-4049-8850-2D1BBED1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8BBD40-F353-4717-9C1D-439886C9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FADB4E-2C60-4131-AC09-8698F64D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91340E-6F6B-4CED-ABE4-95C7BE9E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ED96EC-1CCC-43CF-B1D3-DB4DEFCB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89E14E-BC06-483D-8EDC-A1D873E0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8FD54E-FF2A-4ED7-B44A-3D790AC4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0F644-80D7-4416-9D2A-3BE68EDD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F51166-1974-457B-9CB3-E4481848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FCA737-A81C-4084-B2CE-39645AF2D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64685A-21FB-4364-884D-953BCE4E6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9D098-59A0-43EB-9148-DE160C31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F35EF-46D0-4DF9-8F31-CD4C1D2F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F45EC-0DDF-4783-9BBE-676AB4DA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82284-6472-4473-984E-5BBF7F2D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82A10-9412-4400-BCA7-267528E509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C2A280-759D-4CD4-9AC1-F525225E59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9C99A-B784-4E6C-97DC-8B26CE3C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CD19D8-A9A9-462E-BA7D-612623CD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6B7E9D-E8E1-4D23-9640-FE35C98E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85534B-A031-4DF3-BA66-50983B13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BB313B-DC53-4FC3-BC6B-5F1F46B6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736F89-E2E6-470F-857F-AB6072B6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2F9E5B-231A-48F3-943C-C0AFB441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45F8AF-78C2-484A-B65D-B7A218C0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24BCA9-749B-4711-B596-64927D04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D5A583-8781-41E9-85A5-929ED357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36A32D-D66F-40A6-A66D-40F2ABE4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E2B7C-2E55-4757-BEB7-B7E75159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1587AE-798D-4359-B1DD-DA47BF842B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6507EB-65B3-4FC4-BB9A-F0F43E632E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CBBB34-FF6A-4D59-93A5-BDA8DED1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7C3CAC-E214-4D59-809E-7D0C18C6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D92C1A-63C9-48BA-A924-1CC09438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E1C130-F6C6-4888-9ED1-659D810A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22335D-9342-4297-B518-A89E9B3D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1D36B3-28C0-41D9-88DB-FBD1C011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1872A4-A77A-4563-B71B-AFACCCA0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C49FE6-79A7-433A-B1E5-74B870A9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2DF44-F22D-4FE6-8D74-A8378B5A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B2DC97-FAC1-44B2-8B6E-FA6546C6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96A286-C17A-4DBC-B684-944AB6AC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9489F3-0A8A-4CD8-819C-386DB30648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F492A-4B16-4ACA-BFA6-D9D1D719F1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65C4F-FFD0-4E41-BAB4-3CC206E7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EC22E-E353-4565-B0AA-4F3C77D8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5AC2B-690E-4F54-9975-36B73F65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E4ED4-5BB1-4725-B500-CFADCA99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75F5C-0753-43F0-9A9C-53A0DD7E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CEA40-C41E-4C50-B7DD-FEC3FF2A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41B71-0BE7-407F-8E0C-A45E79AF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014B9-E98A-49F2-B593-515EFBBC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38D13-4B0A-496C-A812-540B1D6F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BC29A-C378-40B5-9643-E2AB999A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4A9D2-C1F4-4082-9F2F-73D9429D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32632-3182-4A13-A2FC-3BA08F046D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BA3EB5-77E0-48AF-B2E1-C63AEC7285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E23035-07F5-49EF-BCE8-8E825991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6567CD-67FC-4500-807A-19485ED2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92F0E9-CA9A-4C73-8E3E-E05CC955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7FBEF1-75D5-4290-82C9-67A06BEE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B76C4-D802-4CAB-B46B-4ED5DC4A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788C28-3188-42F9-8812-1D678326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89724E-6699-429D-900D-94CD3014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45E86E-95EA-4C4B-8107-E3F3CB66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3E1C91-21A2-4CED-8E24-DE4DBD71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CADBBC-250F-4BA0-8270-FB451A3F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BD658C-4BE5-444B-9DEF-F60A4119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006FAA-FEDE-4E59-9EDB-8CD202A8C4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E81D83-E832-4B93-B0A4-14C3E41270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7014B8-FB75-4E83-8B65-A0BF3FF2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8CF48F-C0E6-4B11-BA0A-3F06283C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2769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2770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2771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2772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2773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2774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2775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D08B-9A0B-46A9-952E-1D626F30AAF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0839-65BE-419E-A779-C6466255257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5F63-C070-4BEF-9ABC-027F063B5FC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D832-9042-4FFB-8DE1-6259AC4418F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2687-8666-4CCF-BB11-60B50925A6E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20F8-4E6A-43F1-8CFB-C2AF7F7D1B2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817E-D501-4838-BEC0-3F6405CF38E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7BF2-74F4-4768-8194-3E9C2859706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D673-8704-4D53-AB8E-2F61D2F097A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04AA-7C69-4391-B245-937A42B6205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D131-6CDD-4909-8DE1-A42D56E0507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4CE8-7E1A-4A68-A27D-0ED8484A9C4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5F1F-FAE9-4E35-B11F-4FDF84EFA3E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A5B4-C672-48E4-804D-190B1BEEDE0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F3FB-B9C4-43F1-9A1E-6C652BD692E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D1AC-FFB4-4023-8E17-35C69401E0B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D622-21B9-4D66-AF8E-C027C85AEBB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6C8F-6C9D-45C4-B06D-50F9929F54A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28A5-5709-48CA-BF35-B274A5FC4CA6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0974-E440-4A3D-B6A0-7EFA5FF8B00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19C1-56BF-4D35-A292-E793109B22AA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6EA7-05DF-4E68-9F9A-B4A63C4200F7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6573-CE28-4165-BA18-9FEF9F7B958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261C-23FF-4CA6-9314-2B5BD6C4ECB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B5EC-63F3-43C0-89CD-02FA42CFC10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ACA4-9E2C-42EC-83FF-AF4D34F3BF9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696C-FA25-4BDF-A9E5-EA9B6492BCD6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1179-6D91-4379-B118-579685F60E9C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1741-AB06-4768-817A-0FBD9BCA58F9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D19C-1515-46D0-A270-17CBBDC138A9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3793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3794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379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3796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3797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379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3799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3AE8-F713-4CC8-859D-64C1758B406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04A2-A53B-4D9F-AFC7-504C377FF76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4147-E205-4F35-8DE4-59F4F7564CC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28EF-4ABD-4984-9AB3-F08F429484F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9CD5-899E-4F3D-87AA-8DD499F5C74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04E5-8CF7-43E1-8993-A2802ABB72D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5.gif"/><Relationship Id="rId8" Type="http://schemas.openxmlformats.org/officeDocument/2006/relationships/image" Target="../media/image25.gif"/><Relationship Id="rId9" Type="http://schemas.openxmlformats.org/officeDocument/2006/relationships/image" Target="../media/image23.gif"/><Relationship Id="rId10" Type="http://schemas.openxmlformats.org/officeDocument/2006/relationships/image" Target="../media/image23.gif"/><Relationship Id="rId11" Type="http://schemas.openxmlformats.org/officeDocument/2006/relationships/image" Target="../media/image23.gif"/><Relationship Id="rId12" Type="http://schemas.openxmlformats.org/officeDocument/2006/relationships/image" Target="../media/image23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8673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8674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692360" y="54936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除法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324000" y="1700280"/>
            <a:ext cx="63356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已知比一个数多（少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几分之几是多少求这个数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54" name="左大括号 55" descr=""/>
          <p:cNvPicPr/>
          <p:nvPr/>
        </p:nvPicPr>
        <p:blipFill>
          <a:blip r:embed="rId1"/>
          <a:stretch/>
        </p:blipFill>
        <p:spPr>
          <a:xfrm>
            <a:off x="5864400" y="3174840"/>
            <a:ext cx="726840" cy="365400"/>
          </a:xfrm>
          <a:prstGeom prst="rect">
            <a:avLst/>
          </a:prstGeom>
          <a:ln w="0">
            <a:noFill/>
          </a:ln>
        </p:spPr>
      </p:pic>
      <p:sp>
        <p:nvSpPr>
          <p:cNvPr id="1855" name="TextBox 69"/>
          <p:cNvSpPr/>
          <p:nvPr/>
        </p:nvSpPr>
        <p:spPr>
          <a:xfrm>
            <a:off x="4143240" y="3792600"/>
            <a:ext cx="6429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0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人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6" name="TextBox 51"/>
          <p:cNvSpPr/>
          <p:nvPr/>
        </p:nvSpPr>
        <p:spPr>
          <a:xfrm>
            <a:off x="3857760" y="3000240"/>
            <a:ext cx="1071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？人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57" name="组合 27653"/>
          <p:cNvGrpSpPr/>
          <p:nvPr/>
        </p:nvGrpSpPr>
        <p:grpSpPr>
          <a:xfrm>
            <a:off x="500040" y="2038320"/>
            <a:ext cx="6357960" cy="1765080"/>
            <a:chOff x="500040" y="2038320"/>
            <a:chExt cx="6357960" cy="1765080"/>
          </a:xfrm>
        </p:grpSpPr>
        <p:pic>
          <p:nvPicPr>
            <p:cNvPr id="1858" name="Object 10" descr=""/>
            <p:cNvPicPr/>
            <p:nvPr/>
          </p:nvPicPr>
          <p:blipFill>
            <a:blip r:embed="rId2"/>
            <a:stretch/>
          </p:blipFill>
          <p:spPr>
            <a:xfrm>
              <a:off x="6259680" y="2827440"/>
              <a:ext cx="177480" cy="458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9" name="组合 87"/>
            <p:cNvGrpSpPr/>
            <p:nvPr/>
          </p:nvGrpSpPr>
          <p:grpSpPr>
            <a:xfrm>
              <a:off x="2286000" y="2643120"/>
              <a:ext cx="3571920" cy="142920"/>
              <a:chOff x="2286000" y="2643120"/>
              <a:chExt cx="3571920" cy="142920"/>
            </a:xfrm>
          </p:grpSpPr>
          <p:sp>
            <p:nvSpPr>
              <p:cNvPr id="1860" name="直接连接符 71"/>
              <p:cNvSpPr/>
              <p:nvPr/>
            </p:nvSpPr>
            <p:spPr>
              <a:xfrm flipV="1">
                <a:off x="2287440" y="2784600"/>
                <a:ext cx="3570480" cy="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1" name="直接连接符 72"/>
              <p:cNvSpPr/>
              <p:nvPr/>
            </p:nvSpPr>
            <p:spPr>
              <a:xfrm flipH="1">
                <a:off x="2286000" y="2643840"/>
                <a:ext cx="1440" cy="14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2" name="直接连接符 73"/>
              <p:cNvSpPr/>
              <p:nvPr/>
            </p:nvSpPr>
            <p:spPr>
              <a:xfrm flipH="1">
                <a:off x="5142240" y="2643120"/>
                <a:ext cx="1440" cy="14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3" name="直接连接符 74"/>
              <p:cNvSpPr/>
              <p:nvPr/>
            </p:nvSpPr>
            <p:spPr>
              <a:xfrm flipH="1">
                <a:off x="3000240" y="2643840"/>
                <a:ext cx="1440" cy="14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4" name="直接连接符 75"/>
              <p:cNvSpPr/>
              <p:nvPr/>
            </p:nvSpPr>
            <p:spPr>
              <a:xfrm flipH="1">
                <a:off x="3714480" y="2643840"/>
                <a:ext cx="1440" cy="14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5" name="直接连接符 76"/>
              <p:cNvSpPr/>
              <p:nvPr/>
            </p:nvSpPr>
            <p:spPr>
              <a:xfrm flipH="1">
                <a:off x="5856480" y="2643120"/>
                <a:ext cx="1440" cy="14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6" name="直接连接符 77"/>
              <p:cNvSpPr/>
              <p:nvPr/>
            </p:nvSpPr>
            <p:spPr>
              <a:xfrm flipH="1">
                <a:off x="4428720" y="2643840"/>
                <a:ext cx="1440" cy="142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67" name="组合 101"/>
            <p:cNvGrpSpPr/>
            <p:nvPr/>
          </p:nvGrpSpPr>
          <p:grpSpPr>
            <a:xfrm>
              <a:off x="2298600" y="3341520"/>
              <a:ext cx="4300560" cy="160560"/>
              <a:chOff x="2298600" y="3341520"/>
              <a:chExt cx="4300560" cy="160560"/>
            </a:xfrm>
          </p:grpSpPr>
          <p:sp>
            <p:nvSpPr>
              <p:cNvPr id="1868" name="直接连接符 88"/>
              <p:cNvSpPr/>
              <p:nvPr/>
            </p:nvSpPr>
            <p:spPr>
              <a:xfrm>
                <a:off x="2298600" y="3500640"/>
                <a:ext cx="42872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9" name="直接连接符 90"/>
              <p:cNvSpPr/>
              <p:nvPr/>
            </p:nvSpPr>
            <p:spPr>
              <a:xfrm flipH="1">
                <a:off x="4453920" y="3341520"/>
                <a:ext cx="14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0" name="直接连接符 91"/>
              <p:cNvSpPr/>
              <p:nvPr/>
            </p:nvSpPr>
            <p:spPr>
              <a:xfrm flipH="1">
                <a:off x="2311200" y="3342240"/>
                <a:ext cx="14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1" name="直接连接符 92"/>
              <p:cNvSpPr/>
              <p:nvPr/>
            </p:nvSpPr>
            <p:spPr>
              <a:xfrm flipH="1">
                <a:off x="3025800" y="3342240"/>
                <a:ext cx="14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2" name="直接连接符 93"/>
              <p:cNvSpPr/>
              <p:nvPr/>
            </p:nvSpPr>
            <p:spPr>
              <a:xfrm flipH="1">
                <a:off x="5168520" y="3341520"/>
                <a:ext cx="14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3" name="直接连接符 94"/>
              <p:cNvSpPr/>
              <p:nvPr/>
            </p:nvSpPr>
            <p:spPr>
              <a:xfrm flipH="1">
                <a:off x="3740400" y="3342240"/>
                <a:ext cx="14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4" name="直接连接符 95"/>
              <p:cNvSpPr/>
              <p:nvPr/>
            </p:nvSpPr>
            <p:spPr>
              <a:xfrm flipH="1">
                <a:off x="6597720" y="3341520"/>
                <a:ext cx="14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5" name="直接连接符 96"/>
              <p:cNvSpPr/>
              <p:nvPr/>
            </p:nvSpPr>
            <p:spPr>
              <a:xfrm flipH="1">
                <a:off x="5883840" y="3342240"/>
                <a:ext cx="1440" cy="142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76" name="组合 27672"/>
            <p:cNvGrpSpPr/>
            <p:nvPr/>
          </p:nvGrpSpPr>
          <p:grpSpPr>
            <a:xfrm>
              <a:off x="500040" y="2038320"/>
              <a:ext cx="6357960" cy="1765080"/>
              <a:chOff x="500040" y="2038320"/>
              <a:chExt cx="6357960" cy="1765080"/>
            </a:xfrm>
          </p:grpSpPr>
          <p:sp>
            <p:nvSpPr>
              <p:cNvPr id="1877" name="TextBox 66"/>
              <p:cNvSpPr/>
              <p:nvPr/>
            </p:nvSpPr>
            <p:spPr>
              <a:xfrm>
                <a:off x="3643200" y="2038320"/>
                <a:ext cx="1000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“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8" name="TextBox 102"/>
              <p:cNvSpPr/>
              <p:nvPr/>
            </p:nvSpPr>
            <p:spPr>
              <a:xfrm>
                <a:off x="500040" y="2450160"/>
                <a:ext cx="198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篮球队人数：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9" name="TextBox 103"/>
              <p:cNvSpPr/>
              <p:nvPr/>
            </p:nvSpPr>
            <p:spPr>
              <a:xfrm>
                <a:off x="500040" y="3136680"/>
                <a:ext cx="205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足球队人数：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80" name="TextBox 67"/>
              <p:cNvSpPr/>
              <p:nvPr/>
            </p:nvSpPr>
            <p:spPr>
              <a:xfrm>
                <a:off x="5786280" y="2865240"/>
                <a:ext cx="10717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 </a:t>
                </a: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多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81" name="左大括号 63"/>
              <p:cNvSpPr/>
              <p:nvPr/>
            </p:nvSpPr>
            <p:spPr>
              <a:xfrm rot="5400000">
                <a:off x="3966840" y="729000"/>
                <a:ext cx="205920" cy="3571560"/>
              </a:xfrm>
              <a:custGeom>
                <a:avLst/>
                <a:gdLst>
                  <a:gd name="textAreaLeft" fmla="*/ 131760 w 205920"/>
                  <a:gd name="textAreaRight" fmla="*/ 206280 w 205920"/>
                  <a:gd name="textAreaTop" fmla="*/ 22320 h 3571560"/>
                  <a:gd name="textAreaBottom" fmla="*/ 3549240 h 357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219"/>
                      <a:pt x="10800" y="437"/>
                    </a:cubicBezTo>
                    <a:lnTo>
                      <a:pt x="10800" y="10363"/>
                    </a:lnTo>
                    <a:cubicBezTo>
                      <a:pt x="10800" y="10582"/>
                      <a:pt x="5400" y="10800"/>
                      <a:pt x="0" y="10800"/>
                    </a:cubicBezTo>
                    <a:cubicBezTo>
                      <a:pt x="5400" y="10800"/>
                      <a:pt x="10800" y="11019"/>
                      <a:pt x="10800" y="11237"/>
                    </a:cubicBezTo>
                    <a:lnTo>
                      <a:pt x="10800" y="21163"/>
                    </a:lnTo>
                    <a:cubicBezTo>
                      <a:pt x="10800" y="21382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pic>
            <p:nvPicPr>
              <p:cNvPr id="1882" name="左大括号 70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2760" y="3512160"/>
                <a:ext cx="4291200" cy="29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3" name="直接连接符 105"/>
              <p:cNvSpPr/>
              <p:nvPr/>
            </p:nvSpPr>
            <p:spPr>
              <a:xfrm>
                <a:off x="5855400" y="2274840"/>
                <a:ext cx="33480" cy="1443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84" name="左大括号 110"/>
              <p:cNvSpPr/>
              <p:nvPr/>
            </p:nvSpPr>
            <p:spPr>
              <a:xfrm rot="16200000">
                <a:off x="4003560" y="1108080"/>
                <a:ext cx="136800" cy="3571920"/>
              </a:xfrm>
              <a:custGeom>
                <a:avLst/>
                <a:gdLst>
                  <a:gd name="textAreaLeft" fmla="*/ 87480 w 136800"/>
                  <a:gd name="textAreaRight" fmla="*/ 137160 w 136800"/>
                  <a:gd name="textAreaTop" fmla="*/ 14760 h 3571920"/>
                  <a:gd name="textAreaBottom" fmla="*/ 3557160 h 3571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145"/>
                      <a:pt x="10800" y="290"/>
                    </a:cubicBezTo>
                    <a:lnTo>
                      <a:pt x="10800" y="10510"/>
                    </a:lnTo>
                    <a:cubicBezTo>
                      <a:pt x="10800" y="10655"/>
                      <a:pt x="5400" y="10800"/>
                      <a:pt x="0" y="10800"/>
                    </a:cubicBezTo>
                    <a:cubicBezTo>
                      <a:pt x="5400" y="10800"/>
                      <a:pt x="10800" y="10945"/>
                      <a:pt x="10800" y="11090"/>
                    </a:cubicBezTo>
                    <a:lnTo>
                      <a:pt x="10800" y="21310"/>
                    </a:lnTo>
                    <a:cubicBezTo>
                      <a:pt x="10800" y="21455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885" name="组合 27681"/>
          <p:cNvGrpSpPr/>
          <p:nvPr/>
        </p:nvGrpSpPr>
        <p:grpSpPr>
          <a:xfrm>
            <a:off x="755640" y="1398600"/>
            <a:ext cx="8572320" cy="815040"/>
            <a:chOff x="755640" y="1398600"/>
            <a:chExt cx="8572320" cy="815040"/>
          </a:xfrm>
        </p:grpSpPr>
        <p:sp>
          <p:nvSpPr>
            <p:cNvPr id="1886" name="TextBox 44"/>
            <p:cNvSpPr/>
            <p:nvPr/>
          </p:nvSpPr>
          <p:spPr>
            <a:xfrm>
              <a:off x="755640" y="1598760"/>
              <a:ext cx="857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学校足球队一共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0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人，比篮球队的人数多      ，篮球队有多少人？       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87" name="组合 27683"/>
            <p:cNvGrpSpPr/>
            <p:nvPr/>
          </p:nvGrpSpPr>
          <p:grpSpPr>
            <a:xfrm>
              <a:off x="6046560" y="1398600"/>
              <a:ext cx="511200" cy="815040"/>
              <a:chOff x="6046560" y="1398600"/>
              <a:chExt cx="511200" cy="815040"/>
            </a:xfrm>
          </p:grpSpPr>
          <p:sp>
            <p:nvSpPr>
              <p:cNvPr id="1888" name="文本框 27684"/>
              <p:cNvSpPr/>
              <p:nvPr/>
            </p:nvSpPr>
            <p:spPr>
              <a:xfrm>
                <a:off x="6053040" y="17539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89" name="文本框 27685"/>
              <p:cNvSpPr/>
              <p:nvPr/>
            </p:nvSpPr>
            <p:spPr>
              <a:xfrm>
                <a:off x="6046560" y="13986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90" name="直接连接符 27686"/>
              <p:cNvSpPr/>
              <p:nvPr/>
            </p:nvSpPr>
            <p:spPr>
              <a:xfrm>
                <a:off x="6062400" y="18176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891" name="组合 27687"/>
          <p:cNvGrpSpPr/>
          <p:nvPr/>
        </p:nvGrpSpPr>
        <p:grpSpPr>
          <a:xfrm>
            <a:off x="500040" y="4087800"/>
            <a:ext cx="3786120" cy="2461320"/>
            <a:chOff x="500040" y="4087800"/>
            <a:chExt cx="3786120" cy="2461320"/>
          </a:xfrm>
        </p:grpSpPr>
        <p:sp>
          <p:nvSpPr>
            <p:cNvPr id="1892" name="TextBox 22"/>
            <p:cNvSpPr/>
            <p:nvPr/>
          </p:nvSpPr>
          <p:spPr>
            <a:xfrm>
              <a:off x="571680" y="4383000"/>
              <a:ext cx="3714480" cy="21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解：设篮球队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人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93" name="TextBox 21"/>
            <p:cNvSpPr/>
            <p:nvPr/>
          </p:nvSpPr>
          <p:spPr>
            <a:xfrm>
              <a:off x="500040" y="408780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94" name="组合 27690"/>
            <p:cNvGrpSpPr/>
            <p:nvPr/>
          </p:nvGrpSpPr>
          <p:grpSpPr>
            <a:xfrm>
              <a:off x="1673280" y="4743360"/>
              <a:ext cx="511200" cy="815040"/>
              <a:chOff x="1673280" y="4743360"/>
              <a:chExt cx="511200" cy="815040"/>
            </a:xfrm>
          </p:grpSpPr>
          <p:sp>
            <p:nvSpPr>
              <p:cNvPr id="1895" name="文本框 27691"/>
              <p:cNvSpPr/>
              <p:nvPr/>
            </p:nvSpPr>
            <p:spPr>
              <a:xfrm>
                <a:off x="1679760" y="5098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96" name="文本框 27692"/>
              <p:cNvSpPr/>
              <p:nvPr/>
            </p:nvSpPr>
            <p:spPr>
              <a:xfrm>
                <a:off x="1673280" y="4743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97" name="直接连接符 27693"/>
              <p:cNvSpPr/>
              <p:nvPr/>
            </p:nvSpPr>
            <p:spPr>
              <a:xfrm>
                <a:off x="1689120" y="51624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98" name="组合 27694"/>
            <p:cNvGrpSpPr/>
            <p:nvPr/>
          </p:nvGrpSpPr>
          <p:grpSpPr>
            <a:xfrm>
              <a:off x="1652760" y="5396040"/>
              <a:ext cx="510480" cy="815040"/>
              <a:chOff x="1652760" y="5396040"/>
              <a:chExt cx="510480" cy="815040"/>
            </a:xfrm>
          </p:grpSpPr>
          <p:sp>
            <p:nvSpPr>
              <p:cNvPr id="1899" name="文本框 27695"/>
              <p:cNvSpPr/>
              <p:nvPr/>
            </p:nvSpPr>
            <p:spPr>
              <a:xfrm>
                <a:off x="1658880" y="575136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00" name="文本框 27696"/>
              <p:cNvSpPr/>
              <p:nvPr/>
            </p:nvSpPr>
            <p:spPr>
              <a:xfrm>
                <a:off x="1652760" y="53960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01" name="直接连接符 27697"/>
              <p:cNvSpPr/>
              <p:nvPr/>
            </p:nvSpPr>
            <p:spPr>
              <a:xfrm>
                <a:off x="1668240" y="581508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902" name="组合 27698"/>
          <p:cNvGrpSpPr/>
          <p:nvPr/>
        </p:nvGrpSpPr>
        <p:grpSpPr>
          <a:xfrm>
            <a:off x="4357800" y="4071960"/>
            <a:ext cx="3714480" cy="2717280"/>
            <a:chOff x="4357800" y="4071960"/>
            <a:chExt cx="3714480" cy="2717280"/>
          </a:xfrm>
        </p:grpSpPr>
        <p:sp>
          <p:nvSpPr>
            <p:cNvPr id="1903" name="TextBox 30"/>
            <p:cNvSpPr/>
            <p:nvPr/>
          </p:nvSpPr>
          <p:spPr>
            <a:xfrm>
              <a:off x="4714920" y="4071960"/>
              <a:ext cx="16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04" name="TextBox 31"/>
            <p:cNvSpPr/>
            <p:nvPr/>
          </p:nvSpPr>
          <p:spPr>
            <a:xfrm>
              <a:off x="4357800" y="4500720"/>
              <a:ext cx="37144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解：设篮球队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人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905" name="组合 27701"/>
            <p:cNvGrpSpPr/>
            <p:nvPr/>
          </p:nvGrpSpPr>
          <p:grpSpPr>
            <a:xfrm>
              <a:off x="5791320" y="4775040"/>
              <a:ext cx="511200" cy="815040"/>
              <a:chOff x="5791320" y="4775040"/>
              <a:chExt cx="511200" cy="815040"/>
            </a:xfrm>
          </p:grpSpPr>
          <p:sp>
            <p:nvSpPr>
              <p:cNvPr id="1906" name="文本框 27702"/>
              <p:cNvSpPr/>
              <p:nvPr/>
            </p:nvSpPr>
            <p:spPr>
              <a:xfrm>
                <a:off x="5797800" y="51303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07" name="文本框 27703"/>
              <p:cNvSpPr/>
              <p:nvPr/>
            </p:nvSpPr>
            <p:spPr>
              <a:xfrm>
                <a:off x="5791320" y="47750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08" name="直接连接符 27704"/>
              <p:cNvSpPr/>
              <p:nvPr/>
            </p:nvSpPr>
            <p:spPr>
              <a:xfrm>
                <a:off x="5807160" y="51940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909" name="组合 27705"/>
            <p:cNvGrpSpPr/>
            <p:nvPr/>
          </p:nvGrpSpPr>
          <p:grpSpPr>
            <a:xfrm>
              <a:off x="5972040" y="5251320"/>
              <a:ext cx="511200" cy="815040"/>
              <a:chOff x="5972040" y="5251320"/>
              <a:chExt cx="511200" cy="815040"/>
            </a:xfrm>
          </p:grpSpPr>
          <p:sp>
            <p:nvSpPr>
              <p:cNvPr id="1910" name="文本框 27706"/>
              <p:cNvSpPr/>
              <p:nvPr/>
            </p:nvSpPr>
            <p:spPr>
              <a:xfrm>
                <a:off x="5978520" y="56066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11" name="文本框 27707"/>
              <p:cNvSpPr/>
              <p:nvPr/>
            </p:nvSpPr>
            <p:spPr>
              <a:xfrm>
                <a:off x="5972040" y="52513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12" name="直接连接符 27708"/>
              <p:cNvSpPr/>
              <p:nvPr/>
            </p:nvSpPr>
            <p:spPr>
              <a:xfrm>
                <a:off x="5987880" y="56703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4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916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917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918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919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920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921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922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923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924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1228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一、复习导入，揭示课题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2"/>
          <p:cNvSpPr/>
          <p:nvPr/>
        </p:nvSpPr>
        <p:spPr>
          <a:xfrm>
            <a:off x="642960" y="1484280"/>
            <a:ext cx="32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看图回答问题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6" name="TextBox 50"/>
          <p:cNvSpPr/>
          <p:nvPr/>
        </p:nvSpPr>
        <p:spPr>
          <a:xfrm>
            <a:off x="285840" y="387360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7" name="TextBox 51"/>
          <p:cNvSpPr/>
          <p:nvPr/>
        </p:nvSpPr>
        <p:spPr>
          <a:xfrm>
            <a:off x="1071720" y="39067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①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从图中你知道了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8" name="TextBox 3"/>
          <p:cNvSpPr/>
          <p:nvPr/>
        </p:nvSpPr>
        <p:spPr>
          <a:xfrm>
            <a:off x="1222200" y="23972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女生人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9" name="TextBox 4"/>
          <p:cNvSpPr/>
          <p:nvPr/>
        </p:nvSpPr>
        <p:spPr>
          <a:xfrm>
            <a:off x="1204920" y="30448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男生人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90" name="组合 19463"/>
          <p:cNvGrpSpPr/>
          <p:nvPr/>
        </p:nvGrpSpPr>
        <p:grpSpPr>
          <a:xfrm>
            <a:off x="2570040" y="1979640"/>
            <a:ext cx="3606840" cy="1754280"/>
            <a:chOff x="2570040" y="1979640"/>
            <a:chExt cx="3606840" cy="1754280"/>
          </a:xfrm>
        </p:grpSpPr>
        <p:grpSp>
          <p:nvGrpSpPr>
            <p:cNvPr id="1491" name="组合 19464"/>
            <p:cNvGrpSpPr/>
            <p:nvPr/>
          </p:nvGrpSpPr>
          <p:grpSpPr>
            <a:xfrm>
              <a:off x="2585880" y="2374920"/>
              <a:ext cx="3591000" cy="1009800"/>
              <a:chOff x="2585880" y="2374920"/>
              <a:chExt cx="3591000" cy="1009800"/>
            </a:xfrm>
          </p:grpSpPr>
          <p:grpSp>
            <p:nvGrpSpPr>
              <p:cNvPr id="1492" name="组合 19465"/>
              <p:cNvGrpSpPr/>
              <p:nvPr/>
            </p:nvGrpSpPr>
            <p:grpSpPr>
              <a:xfrm>
                <a:off x="2585880" y="3313440"/>
                <a:ext cx="3582720" cy="71280"/>
                <a:chOff x="2585880" y="3313440"/>
                <a:chExt cx="3582720" cy="71280"/>
              </a:xfrm>
            </p:grpSpPr>
            <p:grpSp>
              <p:nvGrpSpPr>
                <p:cNvPr id="1493" name="组合 19466"/>
                <p:cNvGrpSpPr/>
                <p:nvPr/>
              </p:nvGrpSpPr>
              <p:grpSpPr>
                <a:xfrm>
                  <a:off x="2585880" y="3313440"/>
                  <a:ext cx="718920" cy="71280"/>
                  <a:chOff x="2585880" y="3313440"/>
                  <a:chExt cx="718920" cy="71280"/>
                </a:xfrm>
              </p:grpSpPr>
              <p:sp>
                <p:nvSpPr>
                  <p:cNvPr id="1494" name="直接连接符 19467"/>
                  <p:cNvSpPr/>
                  <p:nvPr/>
                </p:nvSpPr>
                <p:spPr>
                  <a:xfrm>
                    <a:off x="2585880" y="338472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495" name="直接连接符 19468"/>
                  <p:cNvSpPr/>
                  <p:nvPr/>
                </p:nvSpPr>
                <p:spPr>
                  <a:xfrm>
                    <a:off x="2585880" y="33134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496" name="组合 19469"/>
                <p:cNvGrpSpPr/>
                <p:nvPr/>
              </p:nvGrpSpPr>
              <p:grpSpPr>
                <a:xfrm>
                  <a:off x="3300120" y="3313440"/>
                  <a:ext cx="718920" cy="71280"/>
                  <a:chOff x="3300120" y="3313440"/>
                  <a:chExt cx="718920" cy="71280"/>
                </a:xfrm>
              </p:grpSpPr>
              <p:sp>
                <p:nvSpPr>
                  <p:cNvPr id="1497" name="直接连接符 19470"/>
                  <p:cNvSpPr/>
                  <p:nvPr/>
                </p:nvSpPr>
                <p:spPr>
                  <a:xfrm>
                    <a:off x="3300120" y="338472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498" name="直接连接符 19471"/>
                  <p:cNvSpPr/>
                  <p:nvPr/>
                </p:nvSpPr>
                <p:spPr>
                  <a:xfrm>
                    <a:off x="3300120" y="33134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499" name="组合 19472"/>
                <p:cNvGrpSpPr/>
                <p:nvPr/>
              </p:nvGrpSpPr>
              <p:grpSpPr>
                <a:xfrm>
                  <a:off x="4014720" y="3313440"/>
                  <a:ext cx="718920" cy="71280"/>
                  <a:chOff x="4014720" y="3313440"/>
                  <a:chExt cx="718920" cy="71280"/>
                </a:xfrm>
              </p:grpSpPr>
              <p:sp>
                <p:nvSpPr>
                  <p:cNvPr id="1500" name="直接连接符 19473"/>
                  <p:cNvSpPr/>
                  <p:nvPr/>
                </p:nvSpPr>
                <p:spPr>
                  <a:xfrm>
                    <a:off x="4014720" y="338472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01" name="直接连接符 19474"/>
                  <p:cNvSpPr/>
                  <p:nvPr/>
                </p:nvSpPr>
                <p:spPr>
                  <a:xfrm>
                    <a:off x="4014720" y="33134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02" name="组合 19475"/>
                <p:cNvGrpSpPr/>
                <p:nvPr/>
              </p:nvGrpSpPr>
              <p:grpSpPr>
                <a:xfrm>
                  <a:off x="4733640" y="3313440"/>
                  <a:ext cx="718920" cy="71280"/>
                  <a:chOff x="4733640" y="3313440"/>
                  <a:chExt cx="718920" cy="71280"/>
                </a:xfrm>
              </p:grpSpPr>
              <p:sp>
                <p:nvSpPr>
                  <p:cNvPr id="1503" name="直接连接符 19476"/>
                  <p:cNvSpPr/>
                  <p:nvPr/>
                </p:nvSpPr>
                <p:spPr>
                  <a:xfrm>
                    <a:off x="4733640" y="338472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04" name="直接连接符 19477"/>
                  <p:cNvSpPr/>
                  <p:nvPr/>
                </p:nvSpPr>
                <p:spPr>
                  <a:xfrm>
                    <a:off x="4733640" y="33134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05" name="组合 19478"/>
                <p:cNvGrpSpPr/>
                <p:nvPr/>
              </p:nvGrpSpPr>
              <p:grpSpPr>
                <a:xfrm>
                  <a:off x="5449680" y="3313440"/>
                  <a:ext cx="718920" cy="71280"/>
                  <a:chOff x="5449680" y="3313440"/>
                  <a:chExt cx="718920" cy="71280"/>
                </a:xfrm>
              </p:grpSpPr>
              <p:sp>
                <p:nvSpPr>
                  <p:cNvPr id="1506" name="直接连接符 19479"/>
                  <p:cNvSpPr/>
                  <p:nvPr/>
                </p:nvSpPr>
                <p:spPr>
                  <a:xfrm>
                    <a:off x="5449680" y="3384720"/>
                    <a:ext cx="7189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07" name="直接连接符 19480"/>
                  <p:cNvSpPr/>
                  <p:nvPr/>
                </p:nvSpPr>
                <p:spPr>
                  <a:xfrm>
                    <a:off x="5449680" y="331344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508" name="直接连接符 19481"/>
                <p:cNvSpPr/>
                <p:nvPr/>
              </p:nvSpPr>
              <p:spPr>
                <a:xfrm>
                  <a:off x="6163920" y="3313440"/>
                  <a:ext cx="0" cy="71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509" name="左大括号 19482"/>
              <p:cNvSpPr/>
              <p:nvPr/>
            </p:nvSpPr>
            <p:spPr>
              <a:xfrm flipV="1" rot="5400000">
                <a:off x="5734080" y="2823480"/>
                <a:ext cx="144360" cy="71892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8720 h 718920"/>
                  <a:gd name="textAreaBottom" fmla="*/ 700200 h 71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510" name="组合 19483"/>
              <p:cNvGrpSpPr/>
              <p:nvPr/>
            </p:nvGrpSpPr>
            <p:grpSpPr>
              <a:xfrm>
                <a:off x="5329080" y="2374920"/>
                <a:ext cx="847800" cy="815040"/>
                <a:chOff x="5329080" y="2374920"/>
                <a:chExt cx="847800" cy="815040"/>
              </a:xfrm>
            </p:grpSpPr>
            <p:grpSp>
              <p:nvGrpSpPr>
                <p:cNvPr id="1511" name="组合 19484"/>
                <p:cNvGrpSpPr/>
                <p:nvPr/>
              </p:nvGrpSpPr>
              <p:grpSpPr>
                <a:xfrm>
                  <a:off x="5665680" y="2374920"/>
                  <a:ext cx="511200" cy="815040"/>
                  <a:chOff x="5665680" y="2374920"/>
                  <a:chExt cx="511200" cy="815040"/>
                </a:xfrm>
              </p:grpSpPr>
              <p:sp>
                <p:nvSpPr>
                  <p:cNvPr id="1512" name="文本框 19485"/>
                  <p:cNvSpPr/>
                  <p:nvPr/>
                </p:nvSpPr>
                <p:spPr>
                  <a:xfrm>
                    <a:off x="5672160" y="27302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13" name="文本框 19486"/>
                  <p:cNvSpPr/>
                  <p:nvPr/>
                </p:nvSpPr>
                <p:spPr>
                  <a:xfrm>
                    <a:off x="5665680" y="23749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14" name="直接连接符 19487"/>
                  <p:cNvSpPr/>
                  <p:nvPr/>
                </p:nvSpPr>
                <p:spPr>
                  <a:xfrm>
                    <a:off x="5681520" y="2793960"/>
                    <a:ext cx="28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515" name="文本框 19488"/>
                <p:cNvSpPr/>
                <p:nvPr/>
              </p:nvSpPr>
              <p:spPr>
                <a:xfrm>
                  <a:off x="5329080" y="2529000"/>
                  <a:ext cx="503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宋体"/>
                      <a:ea typeface="宋体"/>
                    </a:rPr>
                    <a:t>多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grpSp>
          <p:nvGrpSpPr>
            <p:cNvPr id="1516" name="组合 19489"/>
            <p:cNvGrpSpPr/>
            <p:nvPr/>
          </p:nvGrpSpPr>
          <p:grpSpPr>
            <a:xfrm>
              <a:off x="2570040" y="1979640"/>
              <a:ext cx="2871360" cy="779040"/>
              <a:chOff x="2570040" y="1979640"/>
              <a:chExt cx="2871360" cy="779040"/>
            </a:xfrm>
          </p:grpSpPr>
          <p:grpSp>
            <p:nvGrpSpPr>
              <p:cNvPr id="1517" name="组合 19490"/>
              <p:cNvGrpSpPr/>
              <p:nvPr/>
            </p:nvGrpSpPr>
            <p:grpSpPr>
              <a:xfrm>
                <a:off x="2570040" y="2407680"/>
                <a:ext cx="2871360" cy="351000"/>
                <a:chOff x="2570040" y="2407680"/>
                <a:chExt cx="2871360" cy="351000"/>
              </a:xfrm>
            </p:grpSpPr>
            <p:grpSp>
              <p:nvGrpSpPr>
                <p:cNvPr id="1518" name="组合 19491"/>
                <p:cNvGrpSpPr/>
                <p:nvPr/>
              </p:nvGrpSpPr>
              <p:grpSpPr>
                <a:xfrm>
                  <a:off x="2571120" y="2678400"/>
                  <a:ext cx="2870280" cy="80280"/>
                  <a:chOff x="2571120" y="2678400"/>
                  <a:chExt cx="2870280" cy="80280"/>
                </a:xfrm>
              </p:grpSpPr>
              <p:grpSp>
                <p:nvGrpSpPr>
                  <p:cNvPr id="1519" name="组合 19492"/>
                  <p:cNvGrpSpPr/>
                  <p:nvPr/>
                </p:nvGrpSpPr>
                <p:grpSpPr>
                  <a:xfrm>
                    <a:off x="2571120" y="2678400"/>
                    <a:ext cx="718560" cy="70920"/>
                    <a:chOff x="2571120" y="2678400"/>
                    <a:chExt cx="718560" cy="70920"/>
                  </a:xfrm>
                </p:grpSpPr>
                <p:sp>
                  <p:nvSpPr>
                    <p:cNvPr id="1520" name="直接连接符 19493"/>
                    <p:cNvSpPr/>
                    <p:nvPr/>
                  </p:nvSpPr>
                  <p:spPr>
                    <a:xfrm>
                      <a:off x="2571120" y="2749320"/>
                      <a:ext cx="7185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21" name="直接连接符 19494"/>
                    <p:cNvSpPr/>
                    <p:nvPr/>
                  </p:nvSpPr>
                  <p:spPr>
                    <a:xfrm>
                      <a:off x="2571120" y="2678400"/>
                      <a:ext cx="0" cy="70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2" name="组合 19495"/>
                  <p:cNvGrpSpPr/>
                  <p:nvPr/>
                </p:nvGrpSpPr>
                <p:grpSpPr>
                  <a:xfrm>
                    <a:off x="3285360" y="2678400"/>
                    <a:ext cx="718200" cy="70920"/>
                    <a:chOff x="3285360" y="2678400"/>
                    <a:chExt cx="718200" cy="70920"/>
                  </a:xfrm>
                </p:grpSpPr>
                <p:sp>
                  <p:nvSpPr>
                    <p:cNvPr id="1523" name="直接连接符 19496"/>
                    <p:cNvSpPr/>
                    <p:nvPr/>
                  </p:nvSpPr>
                  <p:spPr>
                    <a:xfrm>
                      <a:off x="3285360" y="2749320"/>
                      <a:ext cx="718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24" name="直接连接符 19497"/>
                    <p:cNvSpPr/>
                    <p:nvPr/>
                  </p:nvSpPr>
                  <p:spPr>
                    <a:xfrm>
                      <a:off x="3285360" y="2678400"/>
                      <a:ext cx="0" cy="70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5" name="组合 19498"/>
                  <p:cNvGrpSpPr/>
                  <p:nvPr/>
                </p:nvGrpSpPr>
                <p:grpSpPr>
                  <a:xfrm>
                    <a:off x="3999240" y="2678400"/>
                    <a:ext cx="718560" cy="70920"/>
                    <a:chOff x="3999240" y="2678400"/>
                    <a:chExt cx="718560" cy="70920"/>
                  </a:xfrm>
                </p:grpSpPr>
                <p:sp>
                  <p:nvSpPr>
                    <p:cNvPr id="1526" name="直接连接符 19499"/>
                    <p:cNvSpPr/>
                    <p:nvPr/>
                  </p:nvSpPr>
                  <p:spPr>
                    <a:xfrm>
                      <a:off x="3999240" y="2749320"/>
                      <a:ext cx="7185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27" name="直接连接符 19500"/>
                    <p:cNvSpPr/>
                    <p:nvPr/>
                  </p:nvSpPr>
                  <p:spPr>
                    <a:xfrm>
                      <a:off x="3999240" y="2678400"/>
                      <a:ext cx="0" cy="70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8" name="组合 19501"/>
                  <p:cNvGrpSpPr/>
                  <p:nvPr/>
                </p:nvGrpSpPr>
                <p:grpSpPr>
                  <a:xfrm>
                    <a:off x="4718160" y="2678400"/>
                    <a:ext cx="718200" cy="70920"/>
                    <a:chOff x="4718160" y="2678400"/>
                    <a:chExt cx="718200" cy="70920"/>
                  </a:xfrm>
                </p:grpSpPr>
                <p:sp>
                  <p:nvSpPr>
                    <p:cNvPr id="1529" name="直接连接符 19502"/>
                    <p:cNvSpPr/>
                    <p:nvPr/>
                  </p:nvSpPr>
                  <p:spPr>
                    <a:xfrm>
                      <a:off x="4718160" y="2749320"/>
                      <a:ext cx="718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30" name="直接连接符 19503"/>
                    <p:cNvSpPr/>
                    <p:nvPr/>
                  </p:nvSpPr>
                  <p:spPr>
                    <a:xfrm>
                      <a:off x="4718160" y="2678400"/>
                      <a:ext cx="0" cy="709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531" name="直接连接符 19504"/>
                  <p:cNvSpPr/>
                  <p:nvPr/>
                </p:nvSpPr>
                <p:spPr>
                  <a:xfrm>
                    <a:off x="5441400" y="2687400"/>
                    <a:ext cx="0" cy="7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532" name="左大括号 19505"/>
                <p:cNvSpPr/>
                <p:nvPr/>
              </p:nvSpPr>
              <p:spPr>
                <a:xfrm flipV="1" rot="5400000">
                  <a:off x="3891240" y="1085760"/>
                  <a:ext cx="216360" cy="2859120"/>
                </a:xfrm>
                <a:custGeom>
                  <a:avLst/>
                  <a:gdLst>
                    <a:gd name="textAreaLeft" fmla="*/ 138240 w 216360"/>
                    <a:gd name="textAreaRight" fmla="*/ 216720 w 216360"/>
                    <a:gd name="textAreaTop" fmla="*/ 74520 h 2859120"/>
                    <a:gd name="textAreaBottom" fmla="*/ 2784600 h 2859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799"/>
                      </a:cubicBezTo>
                      <a:lnTo>
                        <a:pt x="10800" y="9001"/>
                      </a:lnTo>
                      <a:cubicBezTo>
                        <a:pt x="10800" y="9901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599"/>
                      </a:cubicBezTo>
                      <a:lnTo>
                        <a:pt x="10800" y="19801"/>
                      </a:lnTo>
                      <a:cubicBezTo>
                        <a:pt x="10800" y="20701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533" name="文本框 19506"/>
              <p:cNvSpPr/>
              <p:nvPr/>
            </p:nvSpPr>
            <p:spPr>
              <a:xfrm>
                <a:off x="3541680" y="1979640"/>
                <a:ext cx="93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“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34" name="直接连接符 19507"/>
            <p:cNvSpPr/>
            <p:nvPr/>
          </p:nvSpPr>
          <p:spPr>
            <a:xfrm>
              <a:off x="5441760" y="2293920"/>
              <a:ext cx="0" cy="1440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35" name="组合 19508"/>
          <p:cNvGrpSpPr/>
          <p:nvPr/>
        </p:nvGrpSpPr>
        <p:grpSpPr>
          <a:xfrm>
            <a:off x="1062000" y="4095720"/>
            <a:ext cx="8072640" cy="1545120"/>
            <a:chOff x="1062000" y="4095720"/>
            <a:chExt cx="8072640" cy="1545120"/>
          </a:xfrm>
        </p:grpSpPr>
        <p:sp>
          <p:nvSpPr>
            <p:cNvPr id="1536" name="TextBox 51"/>
            <p:cNvSpPr/>
            <p:nvPr/>
          </p:nvSpPr>
          <p:spPr>
            <a:xfrm>
              <a:off x="1062000" y="4267080"/>
              <a:ext cx="8072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②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怎样理解“男生人数比女生人数多     ”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男生人数与女生人数比较；女生人数是单位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；把女生人数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平均分成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，男生人数是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份。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37" name="组合 19510"/>
            <p:cNvGrpSpPr/>
            <p:nvPr/>
          </p:nvGrpSpPr>
          <p:grpSpPr>
            <a:xfrm>
              <a:off x="5248440" y="4095720"/>
              <a:ext cx="510480" cy="815040"/>
              <a:chOff x="5248440" y="4095720"/>
              <a:chExt cx="510480" cy="815040"/>
            </a:xfrm>
          </p:grpSpPr>
          <p:sp>
            <p:nvSpPr>
              <p:cNvPr id="1538" name="文本框 19511"/>
              <p:cNvSpPr/>
              <p:nvPr/>
            </p:nvSpPr>
            <p:spPr>
              <a:xfrm>
                <a:off x="5254560" y="44510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39" name="文本框 19512"/>
              <p:cNvSpPr/>
              <p:nvPr/>
            </p:nvSpPr>
            <p:spPr>
              <a:xfrm>
                <a:off x="5248440" y="409572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0" name="直接连接符 19513"/>
              <p:cNvSpPr/>
              <p:nvPr/>
            </p:nvSpPr>
            <p:spPr>
              <a:xfrm>
                <a:off x="5263920" y="45147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41" name="组合 19514"/>
          <p:cNvGrpSpPr/>
          <p:nvPr/>
        </p:nvGrpSpPr>
        <p:grpSpPr>
          <a:xfrm>
            <a:off x="1071720" y="5527800"/>
            <a:ext cx="8072280" cy="1124640"/>
            <a:chOff x="1071720" y="5527800"/>
            <a:chExt cx="8072280" cy="1124640"/>
          </a:xfrm>
        </p:grpSpPr>
        <p:sp>
          <p:nvSpPr>
            <p:cNvPr id="1542" name="TextBox 51"/>
            <p:cNvSpPr/>
            <p:nvPr/>
          </p:nvSpPr>
          <p:spPr>
            <a:xfrm>
              <a:off x="1071720" y="5527800"/>
              <a:ext cx="8072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③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你能说说男、女生人数之间有怎样的等量关系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女生人数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×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男生人数。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43" name="组合 19516"/>
            <p:cNvGrpSpPr/>
            <p:nvPr/>
          </p:nvGrpSpPr>
          <p:grpSpPr>
            <a:xfrm>
              <a:off x="3540240" y="5837400"/>
              <a:ext cx="511200" cy="815040"/>
              <a:chOff x="3540240" y="5837400"/>
              <a:chExt cx="511200" cy="815040"/>
            </a:xfrm>
          </p:grpSpPr>
          <p:sp>
            <p:nvSpPr>
              <p:cNvPr id="1544" name="文本框 19517"/>
              <p:cNvSpPr/>
              <p:nvPr/>
            </p:nvSpPr>
            <p:spPr>
              <a:xfrm>
                <a:off x="3546720" y="6192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5" name="文本框 19518"/>
              <p:cNvSpPr/>
              <p:nvPr/>
            </p:nvSpPr>
            <p:spPr>
              <a:xfrm>
                <a:off x="3540240" y="58374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6" name="直接连接符 19519"/>
              <p:cNvSpPr/>
              <p:nvPr/>
            </p:nvSpPr>
            <p:spPr>
              <a:xfrm>
                <a:off x="3556080" y="62564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47" name="矩形 19521"/>
          <p:cNvSpPr/>
          <p:nvPr/>
        </p:nvSpPr>
        <p:spPr>
          <a:xfrm>
            <a:off x="18720" y="4503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8" name="矩形 19522"/>
          <p:cNvSpPr/>
          <p:nvPr/>
        </p:nvSpPr>
        <p:spPr>
          <a:xfrm>
            <a:off x="234720" y="4719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0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一）阅读与理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1" name="TextBox 34"/>
          <p:cNvSpPr/>
          <p:nvPr/>
        </p:nvSpPr>
        <p:spPr>
          <a:xfrm>
            <a:off x="642960" y="31813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2" name="TextBox 36"/>
          <p:cNvSpPr/>
          <p:nvPr/>
        </p:nvSpPr>
        <p:spPr>
          <a:xfrm>
            <a:off x="1428840" y="3205080"/>
            <a:ext cx="74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①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从题目中你知道了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3" name="TextBox 36"/>
          <p:cNvSpPr/>
          <p:nvPr/>
        </p:nvSpPr>
        <p:spPr>
          <a:xfrm>
            <a:off x="1428840" y="5229360"/>
            <a:ext cx="74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③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道题怎样解答，请你根据题意先画出线段图，再找出爸爸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体重和小明体重之间的等量关系，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最后列方程解答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54" name="组合 20486"/>
          <p:cNvGrpSpPr/>
          <p:nvPr/>
        </p:nvGrpSpPr>
        <p:grpSpPr>
          <a:xfrm>
            <a:off x="797040" y="1989000"/>
            <a:ext cx="8321400" cy="1106640"/>
            <a:chOff x="797040" y="1989000"/>
            <a:chExt cx="8321400" cy="1106640"/>
          </a:xfrm>
        </p:grpSpPr>
        <p:sp>
          <p:nvSpPr>
            <p:cNvPr id="1555" name="TextBox 31"/>
            <p:cNvSpPr/>
            <p:nvPr/>
          </p:nvSpPr>
          <p:spPr>
            <a:xfrm>
              <a:off x="797040" y="2124000"/>
              <a:ext cx="832140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小明的体重是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5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kg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，他的体重比爸爸的体重轻      ，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小明爸爸的体重是多少千克？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56" name="组合 20488"/>
            <p:cNvGrpSpPr/>
            <p:nvPr/>
          </p:nvGrpSpPr>
          <p:grpSpPr>
            <a:xfrm>
              <a:off x="7715160" y="1989000"/>
              <a:ext cx="504720" cy="815400"/>
              <a:chOff x="7715160" y="1989000"/>
              <a:chExt cx="504720" cy="815400"/>
            </a:xfrm>
          </p:grpSpPr>
          <p:sp>
            <p:nvSpPr>
              <p:cNvPr id="1557" name="文本框 20489"/>
              <p:cNvSpPr/>
              <p:nvPr/>
            </p:nvSpPr>
            <p:spPr>
              <a:xfrm>
                <a:off x="7715160" y="2344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8" name="文本框 20490"/>
              <p:cNvSpPr/>
              <p:nvPr/>
            </p:nvSpPr>
            <p:spPr>
              <a:xfrm>
                <a:off x="7804080" y="1989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9" name="直接连接符 20491"/>
              <p:cNvSpPr/>
              <p:nvPr/>
            </p:nvSpPr>
            <p:spPr>
              <a:xfrm>
                <a:off x="7781760" y="2408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60" name="组合 20492"/>
          <p:cNvGrpSpPr/>
          <p:nvPr/>
        </p:nvGrpSpPr>
        <p:grpSpPr>
          <a:xfrm>
            <a:off x="1428840" y="3390840"/>
            <a:ext cx="7429320" cy="2052000"/>
            <a:chOff x="1428840" y="3390840"/>
            <a:chExt cx="7429320" cy="2052000"/>
          </a:xfrm>
        </p:grpSpPr>
        <p:sp>
          <p:nvSpPr>
            <p:cNvPr id="1561" name="TextBox 36"/>
            <p:cNvSpPr/>
            <p:nvPr/>
          </p:nvSpPr>
          <p:spPr>
            <a:xfrm>
              <a:off x="1428840" y="3573360"/>
              <a:ext cx="742932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②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怎样理解“小明的体重比爸爸的体重轻       ”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小明体重和爸爸体重在比较；爸爸的体重是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；把爸爸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体重平均分成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份，小明的体重就是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份；小明的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体重是爸爸体重的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－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）。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62" name="组合 20494"/>
            <p:cNvGrpSpPr/>
            <p:nvPr/>
          </p:nvGrpSpPr>
          <p:grpSpPr>
            <a:xfrm>
              <a:off x="6118200" y="3390840"/>
              <a:ext cx="504720" cy="815400"/>
              <a:chOff x="6118200" y="3390840"/>
              <a:chExt cx="504720" cy="815400"/>
            </a:xfrm>
          </p:grpSpPr>
          <p:sp>
            <p:nvSpPr>
              <p:cNvPr id="1563" name="文本框 20495"/>
              <p:cNvSpPr/>
              <p:nvPr/>
            </p:nvSpPr>
            <p:spPr>
              <a:xfrm>
                <a:off x="6118200" y="3746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4" name="文本框 20496"/>
              <p:cNvSpPr/>
              <p:nvPr/>
            </p:nvSpPr>
            <p:spPr>
              <a:xfrm>
                <a:off x="6207120" y="3390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5" name="直接连接符 20497"/>
              <p:cNvSpPr/>
              <p:nvPr/>
            </p:nvSpPr>
            <p:spPr>
              <a:xfrm>
                <a:off x="6184800" y="38098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66" name="组合 20498"/>
            <p:cNvGrpSpPr/>
            <p:nvPr/>
          </p:nvGrpSpPr>
          <p:grpSpPr>
            <a:xfrm>
              <a:off x="4427640" y="4627440"/>
              <a:ext cx="504720" cy="815400"/>
              <a:chOff x="4427640" y="4627440"/>
              <a:chExt cx="504720" cy="815400"/>
            </a:xfrm>
          </p:grpSpPr>
          <p:sp>
            <p:nvSpPr>
              <p:cNvPr id="1567" name="文本框 20499"/>
              <p:cNvSpPr/>
              <p:nvPr/>
            </p:nvSpPr>
            <p:spPr>
              <a:xfrm>
                <a:off x="4427640" y="49831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8" name="文本框 20500"/>
              <p:cNvSpPr/>
              <p:nvPr/>
            </p:nvSpPr>
            <p:spPr>
              <a:xfrm>
                <a:off x="4516560" y="4627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9" name="直接连接符 20501"/>
              <p:cNvSpPr/>
              <p:nvPr/>
            </p:nvSpPr>
            <p:spPr>
              <a:xfrm>
                <a:off x="4494240" y="50464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70" name="矩形 20503"/>
          <p:cNvSpPr/>
          <p:nvPr/>
        </p:nvSpPr>
        <p:spPr>
          <a:xfrm>
            <a:off x="18720" y="4503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1" name="矩形 20504"/>
          <p:cNvSpPr/>
          <p:nvPr/>
        </p:nvSpPr>
        <p:spPr>
          <a:xfrm>
            <a:off x="234720" y="4719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3" name="Rectangle 2"/>
          <p:cNvSpPr/>
          <p:nvPr/>
        </p:nvSpPr>
        <p:spPr>
          <a:xfrm>
            <a:off x="357120" y="1486080"/>
            <a:ext cx="35974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分析与解答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4" name="TextBox 14"/>
          <p:cNvSpPr/>
          <p:nvPr/>
        </p:nvSpPr>
        <p:spPr>
          <a:xfrm>
            <a:off x="3500280" y="2087640"/>
            <a:ext cx="55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爸爸的体重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－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明比爸爸轻的部分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明的体重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75" name="组合 21508"/>
          <p:cNvGrpSpPr/>
          <p:nvPr/>
        </p:nvGrpSpPr>
        <p:grpSpPr>
          <a:xfrm>
            <a:off x="210960" y="2286000"/>
            <a:ext cx="4289760" cy="2574360"/>
            <a:chOff x="210960" y="2286000"/>
            <a:chExt cx="4289760" cy="2574360"/>
          </a:xfrm>
        </p:grpSpPr>
        <p:grpSp>
          <p:nvGrpSpPr>
            <p:cNvPr id="1576" name="组合 21509"/>
            <p:cNvGrpSpPr/>
            <p:nvPr/>
          </p:nvGrpSpPr>
          <p:grpSpPr>
            <a:xfrm>
              <a:off x="210960" y="2286000"/>
              <a:ext cx="4289760" cy="2574360"/>
              <a:chOff x="210960" y="2286000"/>
              <a:chExt cx="4289760" cy="2574360"/>
            </a:xfrm>
          </p:grpSpPr>
          <p:grpSp>
            <p:nvGrpSpPr>
              <p:cNvPr id="1577" name="组合 21510"/>
              <p:cNvGrpSpPr/>
              <p:nvPr/>
            </p:nvGrpSpPr>
            <p:grpSpPr>
              <a:xfrm>
                <a:off x="210960" y="2286000"/>
                <a:ext cx="4289760" cy="2574360"/>
                <a:chOff x="210960" y="2286000"/>
                <a:chExt cx="4289760" cy="2574360"/>
              </a:xfrm>
            </p:grpSpPr>
            <p:grpSp>
              <p:nvGrpSpPr>
                <p:cNvPr id="1578" name="组合 21511"/>
                <p:cNvGrpSpPr/>
                <p:nvPr/>
              </p:nvGrpSpPr>
              <p:grpSpPr>
                <a:xfrm>
                  <a:off x="210960" y="2286000"/>
                  <a:ext cx="4289760" cy="2574360"/>
                  <a:chOff x="210960" y="2286000"/>
                  <a:chExt cx="4289760" cy="2574360"/>
                </a:xfrm>
              </p:grpSpPr>
              <p:grpSp>
                <p:nvGrpSpPr>
                  <p:cNvPr id="1579" name="组合 75"/>
                  <p:cNvGrpSpPr/>
                  <p:nvPr/>
                </p:nvGrpSpPr>
                <p:grpSpPr>
                  <a:xfrm>
                    <a:off x="1138320" y="3540240"/>
                    <a:ext cx="3216240" cy="73080"/>
                    <a:chOff x="1138320" y="3540240"/>
                    <a:chExt cx="3216240" cy="73080"/>
                  </a:xfrm>
                </p:grpSpPr>
                <p:sp>
                  <p:nvSpPr>
                    <p:cNvPr id="1580" name="直接连接符 27"/>
                    <p:cNvSpPr/>
                    <p:nvPr/>
                  </p:nvSpPr>
                  <p:spPr>
                    <a:xfrm>
                      <a:off x="1139040" y="3611880"/>
                      <a:ext cx="321552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81" name="直接连接符 31"/>
                    <p:cNvSpPr/>
                    <p:nvPr/>
                  </p:nvSpPr>
                  <p:spPr>
                    <a:xfrm flipH="1">
                      <a:off x="113832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82" name="直接连接符 35"/>
                    <p:cNvSpPr/>
                    <p:nvPr/>
                  </p:nvSpPr>
                  <p:spPr>
                    <a:xfrm flipH="1">
                      <a:off x="135252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83" name="直接连接符 36"/>
                    <p:cNvSpPr/>
                    <p:nvPr/>
                  </p:nvSpPr>
                  <p:spPr>
                    <a:xfrm flipH="1">
                      <a:off x="156708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84" name="直接连接符 37"/>
                    <p:cNvSpPr/>
                    <p:nvPr/>
                  </p:nvSpPr>
                  <p:spPr>
                    <a:xfrm flipH="1">
                      <a:off x="178128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85" name="直接连接符 38"/>
                    <p:cNvSpPr/>
                    <p:nvPr/>
                  </p:nvSpPr>
                  <p:spPr>
                    <a:xfrm flipH="1">
                      <a:off x="199584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86" name="直接连接符 39"/>
                    <p:cNvSpPr/>
                    <p:nvPr/>
                  </p:nvSpPr>
                  <p:spPr>
                    <a:xfrm flipH="1">
                      <a:off x="221004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87" name="直接连接符 40"/>
                    <p:cNvSpPr/>
                    <p:nvPr/>
                  </p:nvSpPr>
                  <p:spPr>
                    <a:xfrm flipH="1">
                      <a:off x="242460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88" name="直接连接符 41"/>
                    <p:cNvSpPr/>
                    <p:nvPr/>
                  </p:nvSpPr>
                  <p:spPr>
                    <a:xfrm flipH="1">
                      <a:off x="263880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89" name="直接连接符 42"/>
                    <p:cNvSpPr/>
                    <p:nvPr/>
                  </p:nvSpPr>
                  <p:spPr>
                    <a:xfrm flipH="1">
                      <a:off x="285336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90" name="直接连接符 43"/>
                    <p:cNvSpPr/>
                    <p:nvPr/>
                  </p:nvSpPr>
                  <p:spPr>
                    <a:xfrm flipH="1">
                      <a:off x="306756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91" name="直接连接符 44"/>
                    <p:cNvSpPr/>
                    <p:nvPr/>
                  </p:nvSpPr>
                  <p:spPr>
                    <a:xfrm flipH="1">
                      <a:off x="328212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92" name="直接连接符 45"/>
                    <p:cNvSpPr/>
                    <p:nvPr/>
                  </p:nvSpPr>
                  <p:spPr>
                    <a:xfrm flipH="1">
                      <a:off x="3496320" y="354024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93" name="直接连接符 46"/>
                    <p:cNvSpPr/>
                    <p:nvPr/>
                  </p:nvSpPr>
                  <p:spPr>
                    <a:xfrm flipH="1">
                      <a:off x="3710880" y="355392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94" name="直接连接符 47"/>
                    <p:cNvSpPr/>
                    <p:nvPr/>
                  </p:nvSpPr>
                  <p:spPr>
                    <a:xfrm flipH="1">
                      <a:off x="3925080" y="355392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95" name="直接连接符 48"/>
                    <p:cNvSpPr/>
                    <p:nvPr/>
                  </p:nvSpPr>
                  <p:spPr>
                    <a:xfrm flipH="1">
                      <a:off x="4139640" y="355392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96" name="直接连接符 49"/>
                    <p:cNvSpPr/>
                    <p:nvPr/>
                  </p:nvSpPr>
                  <p:spPr>
                    <a:xfrm flipH="1">
                      <a:off x="4353840" y="3553920"/>
                      <a:ext cx="720" cy="579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597" name="TextBox 34"/>
                  <p:cNvSpPr/>
                  <p:nvPr/>
                </p:nvSpPr>
                <p:spPr>
                  <a:xfrm>
                    <a:off x="210960" y="3929040"/>
                    <a:ext cx="1000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小明：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1598" name="组合 21531"/>
                  <p:cNvGrpSpPr/>
                  <p:nvPr/>
                </p:nvGrpSpPr>
                <p:grpSpPr>
                  <a:xfrm>
                    <a:off x="210960" y="2286000"/>
                    <a:ext cx="4289760" cy="2574360"/>
                    <a:chOff x="210960" y="2286000"/>
                    <a:chExt cx="4289760" cy="2574360"/>
                  </a:xfrm>
                </p:grpSpPr>
                <p:pic>
                  <p:nvPicPr>
                    <p:cNvPr id="1599" name="右大括号 73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131840" y="2840040"/>
                      <a:ext cx="322092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600" name="右大括号 8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4121280"/>
                      <a:ext cx="152064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01" name="TextBox 34"/>
                    <p:cNvSpPr/>
                    <p:nvPr/>
                  </p:nvSpPr>
                  <p:spPr>
                    <a:xfrm>
                      <a:off x="210960" y="2286000"/>
                      <a:ext cx="16243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预设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1</a:t>
                      </a: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：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02" name="TextBox 34"/>
                    <p:cNvSpPr/>
                    <p:nvPr/>
                  </p:nvSpPr>
                  <p:spPr>
                    <a:xfrm>
                      <a:off x="244440" y="3341520"/>
                      <a:ext cx="9669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爸爸</a:t>
                      </a: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：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03" name="TextBox 74"/>
                    <p:cNvSpPr/>
                    <p:nvPr/>
                  </p:nvSpPr>
                  <p:spPr>
                    <a:xfrm>
                      <a:off x="2282760" y="2585880"/>
                      <a:ext cx="9288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“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</a:t>
                      </a: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”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pic>
                  <p:nvPicPr>
                    <p:cNvPr id="1604" name="右大括号 7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625840" y="3290760"/>
                      <a:ext cx="1738080" cy="365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605" name="TextBox 79"/>
                    <p:cNvSpPr/>
                    <p:nvPr/>
                  </p:nvSpPr>
                  <p:spPr>
                    <a:xfrm>
                      <a:off x="2571840" y="3127320"/>
                      <a:ext cx="192888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小明的体重比爸爸轻</a:t>
                      </a:r>
                      <a:endParaRPr b="0" i="1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06" name="TextBox 81"/>
                    <p:cNvSpPr/>
                    <p:nvPr/>
                  </p:nvSpPr>
                  <p:spPr>
                    <a:xfrm>
                      <a:off x="2639880" y="3797280"/>
                      <a:ext cx="1143000" cy="532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？千克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07" name="TextBox 83"/>
                    <p:cNvSpPr/>
                    <p:nvPr/>
                  </p:nvSpPr>
                  <p:spPr>
                    <a:xfrm>
                      <a:off x="853920" y="3755880"/>
                      <a:ext cx="1928880" cy="31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是爸爸体重的几分之几？</a:t>
                      </a:r>
                      <a:endParaRPr b="0" i="1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08" name="TextBox 85"/>
                    <p:cNvSpPr/>
                    <p:nvPr/>
                  </p:nvSpPr>
                  <p:spPr>
                    <a:xfrm>
                      <a:off x="1568520" y="4327560"/>
                      <a:ext cx="1143000" cy="532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35</a:t>
                      </a:r>
                      <a:r>
                        <a:rPr b="0" i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宋体"/>
                        </a:rPr>
                        <a:t>千克</a:t>
                      </a: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pic>
              <p:nvPicPr>
                <p:cNvPr id="1609" name="右大括号 8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144440" y="3567240"/>
                  <a:ext cx="3221280" cy="365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0" name="Object 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048200" y="3068640"/>
                  <a:ext cx="234720" cy="382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11" name="椭圆 77"/>
              <p:cNvSpPr/>
              <p:nvPr/>
            </p:nvSpPr>
            <p:spPr>
              <a:xfrm>
                <a:off x="2639880" y="3255840"/>
                <a:ext cx="1714680" cy="6429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2" name="直接连接符 34"/>
              <p:cNvSpPr/>
              <p:nvPr/>
            </p:nvSpPr>
            <p:spPr>
              <a:xfrm>
                <a:off x="2620080" y="3246480"/>
                <a:ext cx="9720" cy="1252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pic>
            <p:nvPicPr>
              <p:cNvPr id="1613" name="右大括号 82" descr=""/>
              <p:cNvPicPr/>
              <p:nvPr/>
            </p:nvPicPr>
            <p:blipFill>
              <a:blip r:embed="rId6"/>
              <a:stretch/>
            </p:blipFill>
            <p:spPr>
              <a:xfrm>
                <a:off x="1128600" y="3889440"/>
                <a:ext cx="1521000" cy="365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14" name="组合 76"/>
            <p:cNvGrpSpPr/>
            <p:nvPr/>
          </p:nvGrpSpPr>
          <p:grpSpPr>
            <a:xfrm>
              <a:off x="1139760" y="4113360"/>
              <a:ext cx="1500120" cy="71280"/>
              <a:chOff x="1139760" y="4113360"/>
              <a:chExt cx="1500120" cy="71280"/>
            </a:xfrm>
          </p:grpSpPr>
          <p:sp>
            <p:nvSpPr>
              <p:cNvPr id="1615" name="直接连接符 61"/>
              <p:cNvSpPr/>
              <p:nvPr/>
            </p:nvSpPr>
            <p:spPr>
              <a:xfrm>
                <a:off x="1139760" y="4183200"/>
                <a:ext cx="14994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6" name="直接连接符 62"/>
              <p:cNvSpPr/>
              <p:nvPr/>
            </p:nvSpPr>
            <p:spPr>
              <a:xfrm flipH="1">
                <a:off x="1139760" y="411336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7" name="直接连接符 63"/>
              <p:cNvSpPr/>
              <p:nvPr/>
            </p:nvSpPr>
            <p:spPr>
              <a:xfrm flipH="1">
                <a:off x="1353960" y="411336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8" name="直接连接符 64"/>
              <p:cNvSpPr/>
              <p:nvPr/>
            </p:nvSpPr>
            <p:spPr>
              <a:xfrm flipH="1">
                <a:off x="1568160" y="411336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9" name="直接连接符 65"/>
              <p:cNvSpPr/>
              <p:nvPr/>
            </p:nvSpPr>
            <p:spPr>
              <a:xfrm flipH="1">
                <a:off x="1782360" y="411336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0" name="直接连接符 66"/>
              <p:cNvSpPr/>
              <p:nvPr/>
            </p:nvSpPr>
            <p:spPr>
              <a:xfrm flipH="1">
                <a:off x="1996560" y="411336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1" name="直接连接符 67"/>
              <p:cNvSpPr/>
              <p:nvPr/>
            </p:nvSpPr>
            <p:spPr>
              <a:xfrm flipH="1">
                <a:off x="2210760" y="411336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2" name="直接连接符 68"/>
              <p:cNvSpPr/>
              <p:nvPr/>
            </p:nvSpPr>
            <p:spPr>
              <a:xfrm flipH="1">
                <a:off x="2424960" y="412704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3" name="直接连接符 69"/>
              <p:cNvSpPr/>
              <p:nvPr/>
            </p:nvSpPr>
            <p:spPr>
              <a:xfrm flipH="1">
                <a:off x="2639160" y="4127040"/>
                <a:ext cx="720" cy="5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624" name="TextBox 135"/>
          <p:cNvSpPr/>
          <p:nvPr/>
        </p:nvSpPr>
        <p:spPr>
          <a:xfrm>
            <a:off x="247680" y="488484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5" name="TextBox 136"/>
          <p:cNvSpPr/>
          <p:nvPr/>
        </p:nvSpPr>
        <p:spPr>
          <a:xfrm>
            <a:off x="1000080" y="4896000"/>
            <a:ext cx="73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①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们能借助线段图理解这个等量关系式和方程的意思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6" name="TextBox 136"/>
          <p:cNvSpPr/>
          <p:nvPr/>
        </p:nvSpPr>
        <p:spPr>
          <a:xfrm>
            <a:off x="1000080" y="5319720"/>
            <a:ext cx="64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②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图中哪部分是小明体重比爸爸轻的部分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7" name="TextBox 136"/>
          <p:cNvSpPr/>
          <p:nvPr/>
        </p:nvSpPr>
        <p:spPr>
          <a:xfrm>
            <a:off x="1000080" y="5786280"/>
            <a:ext cx="55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③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他是怎样求小明体重比爸爸轻的部分的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28" name="组合 21561"/>
          <p:cNvGrpSpPr/>
          <p:nvPr/>
        </p:nvGrpSpPr>
        <p:grpSpPr>
          <a:xfrm>
            <a:off x="4714920" y="2500200"/>
            <a:ext cx="4143240" cy="2531880"/>
            <a:chOff x="4714920" y="2500200"/>
            <a:chExt cx="4143240" cy="2531880"/>
          </a:xfrm>
        </p:grpSpPr>
        <p:sp>
          <p:nvSpPr>
            <p:cNvPr id="1629" name="TextBox 14"/>
            <p:cNvSpPr/>
            <p:nvPr/>
          </p:nvSpPr>
          <p:spPr>
            <a:xfrm>
              <a:off x="4714920" y="2500200"/>
              <a:ext cx="41432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解：设爸爸的体重为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g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－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30" name="组合 21563"/>
            <p:cNvGrpSpPr/>
            <p:nvPr/>
          </p:nvGrpSpPr>
          <p:grpSpPr>
            <a:xfrm>
              <a:off x="5640480" y="2770200"/>
              <a:ext cx="504720" cy="815400"/>
              <a:chOff x="5640480" y="2770200"/>
              <a:chExt cx="504720" cy="815400"/>
            </a:xfrm>
          </p:grpSpPr>
          <p:sp>
            <p:nvSpPr>
              <p:cNvPr id="1631" name="文本框 21564"/>
              <p:cNvSpPr/>
              <p:nvPr/>
            </p:nvSpPr>
            <p:spPr>
              <a:xfrm>
                <a:off x="5640480" y="3125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2" name="文本框 21565"/>
              <p:cNvSpPr/>
              <p:nvPr/>
            </p:nvSpPr>
            <p:spPr>
              <a:xfrm>
                <a:off x="5729400" y="2770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3" name="直接连接符 21566"/>
              <p:cNvSpPr/>
              <p:nvPr/>
            </p:nvSpPr>
            <p:spPr>
              <a:xfrm>
                <a:off x="5707080" y="31892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34" name="组合 21567"/>
            <p:cNvGrpSpPr/>
            <p:nvPr/>
          </p:nvGrpSpPr>
          <p:grpSpPr>
            <a:xfrm>
              <a:off x="5657760" y="3359160"/>
              <a:ext cx="504720" cy="815400"/>
              <a:chOff x="5657760" y="3359160"/>
              <a:chExt cx="504720" cy="815400"/>
            </a:xfrm>
          </p:grpSpPr>
          <p:sp>
            <p:nvSpPr>
              <p:cNvPr id="1635" name="文本框 21568"/>
              <p:cNvSpPr/>
              <p:nvPr/>
            </p:nvSpPr>
            <p:spPr>
              <a:xfrm>
                <a:off x="5657760" y="37148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6" name="文本框 21569"/>
              <p:cNvSpPr/>
              <p:nvPr/>
            </p:nvSpPr>
            <p:spPr>
              <a:xfrm>
                <a:off x="5746680" y="3359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7" name="直接连接符 21570"/>
              <p:cNvSpPr/>
              <p:nvPr/>
            </p:nvSpPr>
            <p:spPr>
              <a:xfrm>
                <a:off x="5724360" y="37782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38" name="组合 21571"/>
            <p:cNvGrpSpPr/>
            <p:nvPr/>
          </p:nvGrpSpPr>
          <p:grpSpPr>
            <a:xfrm>
              <a:off x="7015320" y="3849840"/>
              <a:ext cx="586800" cy="815040"/>
              <a:chOff x="7015320" y="3849840"/>
              <a:chExt cx="586800" cy="815040"/>
            </a:xfrm>
          </p:grpSpPr>
          <p:sp>
            <p:nvSpPr>
              <p:cNvPr id="1639" name="文本框 21572"/>
              <p:cNvSpPr/>
              <p:nvPr/>
            </p:nvSpPr>
            <p:spPr>
              <a:xfrm>
                <a:off x="7097400" y="42051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0" name="文本框 21573"/>
              <p:cNvSpPr/>
              <p:nvPr/>
            </p:nvSpPr>
            <p:spPr>
              <a:xfrm>
                <a:off x="7015320" y="3849840"/>
                <a:ext cx="580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1" name="直接连接符 21574"/>
              <p:cNvSpPr/>
              <p:nvPr/>
            </p:nvSpPr>
            <p:spPr>
              <a:xfrm>
                <a:off x="7078320" y="42685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642" name="矩形 21576"/>
          <p:cNvSpPr/>
          <p:nvPr/>
        </p:nvSpPr>
        <p:spPr>
          <a:xfrm>
            <a:off x="18720" y="4503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3" name="矩形 21577"/>
          <p:cNvSpPr/>
          <p:nvPr/>
        </p:nvSpPr>
        <p:spPr>
          <a:xfrm>
            <a:off x="234720" y="4719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4" name="ShockwaveFlash1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1645" name="图片 22530" descr=""/>
          <p:cNvPicPr/>
          <p:nvPr/>
        </p:nvPicPr>
        <p:blipFill>
          <a:blip r:embed="rId2"/>
          <a:stretch/>
        </p:blipFill>
        <p:spPr>
          <a:xfrm>
            <a:off x="347760" y="266760"/>
            <a:ext cx="841032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7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分析与解答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48" name="组合 23555"/>
          <p:cNvGrpSpPr/>
          <p:nvPr/>
        </p:nvGrpSpPr>
        <p:grpSpPr>
          <a:xfrm>
            <a:off x="214200" y="2286000"/>
            <a:ext cx="4286520" cy="2545920"/>
            <a:chOff x="214200" y="2286000"/>
            <a:chExt cx="4286520" cy="2545920"/>
          </a:xfrm>
        </p:grpSpPr>
        <p:grpSp>
          <p:nvGrpSpPr>
            <p:cNvPr id="1649" name="组合 23556"/>
            <p:cNvGrpSpPr/>
            <p:nvPr/>
          </p:nvGrpSpPr>
          <p:grpSpPr>
            <a:xfrm>
              <a:off x="214200" y="2286000"/>
              <a:ext cx="4286520" cy="2545920"/>
              <a:chOff x="214200" y="2286000"/>
              <a:chExt cx="4286520" cy="2545920"/>
            </a:xfrm>
          </p:grpSpPr>
          <p:grpSp>
            <p:nvGrpSpPr>
              <p:cNvPr id="1650" name="组合 23557"/>
              <p:cNvGrpSpPr/>
              <p:nvPr/>
            </p:nvGrpSpPr>
            <p:grpSpPr>
              <a:xfrm>
                <a:off x="214200" y="2286000"/>
                <a:ext cx="4286520" cy="2545920"/>
                <a:chOff x="214200" y="2286000"/>
                <a:chExt cx="4286520" cy="2545920"/>
              </a:xfrm>
            </p:grpSpPr>
            <p:sp>
              <p:nvSpPr>
                <p:cNvPr id="1651" name="TextBox 34"/>
                <p:cNvSpPr/>
                <p:nvPr/>
              </p:nvSpPr>
              <p:spPr>
                <a:xfrm>
                  <a:off x="214200" y="2286000"/>
                  <a:ext cx="140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预设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2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：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652" name="组合 23559"/>
                <p:cNvGrpSpPr/>
                <p:nvPr/>
              </p:nvGrpSpPr>
              <p:grpSpPr>
                <a:xfrm>
                  <a:off x="214200" y="2571840"/>
                  <a:ext cx="4286520" cy="2260080"/>
                  <a:chOff x="214200" y="2571840"/>
                  <a:chExt cx="4286520" cy="2260080"/>
                </a:xfrm>
              </p:grpSpPr>
              <p:pic>
                <p:nvPicPr>
                  <p:cNvPr id="1653" name="右大括号 122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119240" y="2825640"/>
                    <a:ext cx="324468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54" name="右大括号 1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3640" y="4132440"/>
                    <a:ext cx="15192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5" name="TextBox 115"/>
                  <p:cNvSpPr/>
                  <p:nvPr/>
                </p:nvSpPr>
                <p:spPr>
                  <a:xfrm>
                    <a:off x="2571840" y="3098880"/>
                    <a:ext cx="1928880" cy="312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小明的体重比爸爸轻</a:t>
                    </a:r>
                    <a:endParaRPr b="0" i="1" lang="en-US" sz="12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pic>
                <p:nvPicPr>
                  <p:cNvPr id="1656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95720" y="3059280"/>
                    <a:ext cx="23328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7" name="TextBox 117"/>
                  <p:cNvSpPr/>
                  <p:nvPr/>
                </p:nvSpPr>
                <p:spPr>
                  <a:xfrm>
                    <a:off x="2639880" y="3768840"/>
                    <a:ext cx="1143000" cy="53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？千克</a:t>
                    </a: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58" name="TextBox 119"/>
                  <p:cNvSpPr/>
                  <p:nvPr/>
                </p:nvSpPr>
                <p:spPr>
                  <a:xfrm>
                    <a:off x="1589040" y="4299120"/>
                    <a:ext cx="1143000" cy="53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35</a:t>
                    </a:r>
                    <a:r>
                      <a:rPr b="0" i="1" lang="zh-CN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千克</a:t>
                    </a: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59" name="TextBox 34"/>
                  <p:cNvSpPr/>
                  <p:nvPr/>
                </p:nvSpPr>
                <p:spPr>
                  <a:xfrm>
                    <a:off x="247680" y="3330720"/>
                    <a:ext cx="9666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爸爸：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60" name="TextBox 34"/>
                  <p:cNvSpPr/>
                  <p:nvPr/>
                </p:nvSpPr>
                <p:spPr>
                  <a:xfrm>
                    <a:off x="214200" y="3917880"/>
                    <a:ext cx="1000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小明：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61" name="TextBox 123"/>
                  <p:cNvSpPr/>
                  <p:nvPr/>
                </p:nvSpPr>
                <p:spPr>
                  <a:xfrm>
                    <a:off x="2300400" y="2571840"/>
                    <a:ext cx="928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“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”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pic>
                <p:nvPicPr>
                  <p:cNvPr id="1662" name="右大括号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3640" y="3821040"/>
                    <a:ext cx="152064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63" name="右大括号 1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25840" y="3276720"/>
                    <a:ext cx="175104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4" name="椭圆 130"/>
                  <p:cNvSpPr/>
                  <p:nvPr/>
                </p:nvSpPr>
                <p:spPr>
                  <a:xfrm>
                    <a:off x="1128600" y="3244680"/>
                    <a:ext cx="1500480" cy="64296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65" name="组合 86"/>
              <p:cNvGrpSpPr/>
              <p:nvPr/>
            </p:nvGrpSpPr>
            <p:grpSpPr>
              <a:xfrm>
                <a:off x="1139760" y="3511440"/>
                <a:ext cx="3214800" cy="73080"/>
                <a:chOff x="1139760" y="3511440"/>
                <a:chExt cx="3214800" cy="73080"/>
              </a:xfrm>
            </p:grpSpPr>
            <p:sp>
              <p:nvSpPr>
                <p:cNvPr id="1666" name="直接连接符 87"/>
                <p:cNvSpPr/>
                <p:nvPr/>
              </p:nvSpPr>
              <p:spPr>
                <a:xfrm>
                  <a:off x="1140480" y="3583080"/>
                  <a:ext cx="321408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7" name="直接连接符 88"/>
                <p:cNvSpPr/>
                <p:nvPr/>
              </p:nvSpPr>
              <p:spPr>
                <a:xfrm flipH="1">
                  <a:off x="113976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8" name="直接连接符 89"/>
                <p:cNvSpPr/>
                <p:nvPr/>
              </p:nvSpPr>
              <p:spPr>
                <a:xfrm flipH="1">
                  <a:off x="135396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9" name="直接连接符 90"/>
                <p:cNvSpPr/>
                <p:nvPr/>
              </p:nvSpPr>
              <p:spPr>
                <a:xfrm flipH="1">
                  <a:off x="156816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0" name="直接连接符 91"/>
                <p:cNvSpPr/>
                <p:nvPr/>
              </p:nvSpPr>
              <p:spPr>
                <a:xfrm flipH="1">
                  <a:off x="178236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1" name="直接连接符 92"/>
                <p:cNvSpPr/>
                <p:nvPr/>
              </p:nvSpPr>
              <p:spPr>
                <a:xfrm flipH="1">
                  <a:off x="199692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2" name="直接连接符 93"/>
                <p:cNvSpPr/>
                <p:nvPr/>
              </p:nvSpPr>
              <p:spPr>
                <a:xfrm flipH="1">
                  <a:off x="221112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3" name="直接连接符 94"/>
                <p:cNvSpPr/>
                <p:nvPr/>
              </p:nvSpPr>
              <p:spPr>
                <a:xfrm flipH="1">
                  <a:off x="242532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4" name="直接连接符 95"/>
                <p:cNvSpPr/>
                <p:nvPr/>
              </p:nvSpPr>
              <p:spPr>
                <a:xfrm flipH="1">
                  <a:off x="263952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5" name="直接连接符 96"/>
                <p:cNvSpPr/>
                <p:nvPr/>
              </p:nvSpPr>
              <p:spPr>
                <a:xfrm flipH="1">
                  <a:off x="285408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6" name="直接连接符 97"/>
                <p:cNvSpPr/>
                <p:nvPr/>
              </p:nvSpPr>
              <p:spPr>
                <a:xfrm flipH="1">
                  <a:off x="306828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7" name="直接连接符 98"/>
                <p:cNvSpPr/>
                <p:nvPr/>
              </p:nvSpPr>
              <p:spPr>
                <a:xfrm flipH="1">
                  <a:off x="328248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8" name="直接连接符 99"/>
                <p:cNvSpPr/>
                <p:nvPr/>
              </p:nvSpPr>
              <p:spPr>
                <a:xfrm flipH="1">
                  <a:off x="3496680" y="351144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79" name="直接连接符 100"/>
                <p:cNvSpPr/>
                <p:nvPr/>
              </p:nvSpPr>
              <p:spPr>
                <a:xfrm flipH="1">
                  <a:off x="3711240" y="352512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0" name="直接连接符 101"/>
                <p:cNvSpPr/>
                <p:nvPr/>
              </p:nvSpPr>
              <p:spPr>
                <a:xfrm flipH="1">
                  <a:off x="3925440" y="352512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1" name="直接连接符 102"/>
                <p:cNvSpPr/>
                <p:nvPr/>
              </p:nvSpPr>
              <p:spPr>
                <a:xfrm flipH="1">
                  <a:off x="4139640" y="352512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2" name="直接连接符 103"/>
                <p:cNvSpPr/>
                <p:nvPr/>
              </p:nvSpPr>
              <p:spPr>
                <a:xfrm flipH="1">
                  <a:off x="4353840" y="3525120"/>
                  <a:ext cx="720" cy="57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683" name="组合 104"/>
              <p:cNvGrpSpPr/>
              <p:nvPr/>
            </p:nvGrpSpPr>
            <p:grpSpPr>
              <a:xfrm>
                <a:off x="1139760" y="4098960"/>
                <a:ext cx="1500120" cy="71280"/>
                <a:chOff x="1139760" y="4098960"/>
                <a:chExt cx="1500120" cy="71280"/>
              </a:xfrm>
            </p:grpSpPr>
            <p:sp>
              <p:nvSpPr>
                <p:cNvPr id="1684" name="直接连接符 105"/>
                <p:cNvSpPr/>
                <p:nvPr/>
              </p:nvSpPr>
              <p:spPr>
                <a:xfrm>
                  <a:off x="1139760" y="4168800"/>
                  <a:ext cx="1499400" cy="1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5" name="直接连接符 106"/>
                <p:cNvSpPr/>
                <p:nvPr/>
              </p:nvSpPr>
              <p:spPr>
                <a:xfrm flipH="1">
                  <a:off x="1139760" y="409896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6" name="直接连接符 107"/>
                <p:cNvSpPr/>
                <p:nvPr/>
              </p:nvSpPr>
              <p:spPr>
                <a:xfrm flipH="1">
                  <a:off x="1353960" y="409896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7" name="直接连接符 108"/>
                <p:cNvSpPr/>
                <p:nvPr/>
              </p:nvSpPr>
              <p:spPr>
                <a:xfrm flipH="1">
                  <a:off x="1568160" y="409896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8" name="直接连接符 109"/>
                <p:cNvSpPr/>
                <p:nvPr/>
              </p:nvSpPr>
              <p:spPr>
                <a:xfrm flipH="1">
                  <a:off x="1782360" y="409896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89" name="直接连接符 110"/>
                <p:cNvSpPr/>
                <p:nvPr/>
              </p:nvSpPr>
              <p:spPr>
                <a:xfrm flipH="1">
                  <a:off x="1996560" y="409896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90" name="直接连接符 111"/>
                <p:cNvSpPr/>
                <p:nvPr/>
              </p:nvSpPr>
              <p:spPr>
                <a:xfrm flipH="1">
                  <a:off x="2210760" y="409896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91" name="直接连接符 112"/>
                <p:cNvSpPr/>
                <p:nvPr/>
              </p:nvSpPr>
              <p:spPr>
                <a:xfrm flipH="1">
                  <a:off x="2424960" y="411264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92" name="直接连接符 113"/>
                <p:cNvSpPr/>
                <p:nvPr/>
              </p:nvSpPr>
              <p:spPr>
                <a:xfrm flipH="1">
                  <a:off x="2639160" y="4112640"/>
                  <a:ext cx="720" cy="57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693" name="TextBox 118"/>
              <p:cNvSpPr/>
              <p:nvPr/>
            </p:nvSpPr>
            <p:spPr>
              <a:xfrm>
                <a:off x="853920" y="3728880"/>
                <a:ext cx="19288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12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是爸爸体重的几分之几？</a:t>
                </a:r>
                <a:endParaRPr b="0" i="1" lang="en-US" sz="12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pic>
          <p:nvPicPr>
            <p:cNvPr id="1694" name="右大括号 127" descr=""/>
            <p:cNvPicPr/>
            <p:nvPr/>
          </p:nvPicPr>
          <p:blipFill>
            <a:blip r:embed="rId6"/>
            <a:stretch/>
          </p:blipFill>
          <p:spPr>
            <a:xfrm>
              <a:off x="1150920" y="3567240"/>
              <a:ext cx="32162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5" name="直接连接符 129"/>
            <p:cNvSpPr/>
            <p:nvPr/>
          </p:nvSpPr>
          <p:spPr>
            <a:xfrm>
              <a:off x="2649600" y="3246480"/>
              <a:ext cx="9360" cy="1252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96" name="TextBox 104"/>
          <p:cNvSpPr/>
          <p:nvPr/>
        </p:nvSpPr>
        <p:spPr>
          <a:xfrm>
            <a:off x="214200" y="4896000"/>
            <a:ext cx="14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7" name="TextBox 114"/>
          <p:cNvSpPr/>
          <p:nvPr/>
        </p:nvSpPr>
        <p:spPr>
          <a:xfrm>
            <a:off x="1000080" y="488808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①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们能借助线段图理解这个数量关系式和方程的意思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8" name="TextBox 114"/>
          <p:cNvSpPr/>
          <p:nvPr/>
        </p:nvSpPr>
        <p:spPr>
          <a:xfrm>
            <a:off x="1000080" y="530208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②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图中小明的体重相当于爸爸体重的哪一部分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9" name="TextBox 114"/>
          <p:cNvSpPr/>
          <p:nvPr/>
        </p:nvSpPr>
        <p:spPr>
          <a:xfrm>
            <a:off x="1000080" y="573084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③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明的体重相当于爸爸体重的几分之几？你是怎样得到的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00" name="组合 23607"/>
          <p:cNvGrpSpPr/>
          <p:nvPr/>
        </p:nvGrpSpPr>
        <p:grpSpPr>
          <a:xfrm>
            <a:off x="4357800" y="1844640"/>
            <a:ext cx="4786200" cy="815400"/>
            <a:chOff x="4357800" y="1844640"/>
            <a:chExt cx="4786200" cy="815400"/>
          </a:xfrm>
        </p:grpSpPr>
        <p:sp>
          <p:nvSpPr>
            <p:cNvPr id="1701" name="TextBox 28"/>
            <p:cNvSpPr/>
            <p:nvPr/>
          </p:nvSpPr>
          <p:spPr>
            <a:xfrm>
              <a:off x="4357800" y="201132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爸爸的体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）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小明的体重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02" name="组合 23609"/>
            <p:cNvGrpSpPr/>
            <p:nvPr/>
          </p:nvGrpSpPr>
          <p:grpSpPr>
            <a:xfrm>
              <a:off x="6670800" y="1844640"/>
              <a:ext cx="504720" cy="815400"/>
              <a:chOff x="6670800" y="1844640"/>
              <a:chExt cx="504720" cy="815400"/>
            </a:xfrm>
          </p:grpSpPr>
          <p:sp>
            <p:nvSpPr>
              <p:cNvPr id="1703" name="文本框 23610"/>
              <p:cNvSpPr/>
              <p:nvPr/>
            </p:nvSpPr>
            <p:spPr>
              <a:xfrm>
                <a:off x="6670800" y="2200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04" name="文本框 23611"/>
              <p:cNvSpPr/>
              <p:nvPr/>
            </p:nvSpPr>
            <p:spPr>
              <a:xfrm>
                <a:off x="6759720" y="1844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05" name="直接连接符 23612"/>
              <p:cNvSpPr/>
              <p:nvPr/>
            </p:nvSpPr>
            <p:spPr>
              <a:xfrm>
                <a:off x="6737400" y="2263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706" name="组合 23613"/>
          <p:cNvGrpSpPr/>
          <p:nvPr/>
        </p:nvGrpSpPr>
        <p:grpSpPr>
          <a:xfrm>
            <a:off x="4857840" y="2471760"/>
            <a:ext cx="4143240" cy="2288520"/>
            <a:chOff x="4857840" y="2471760"/>
            <a:chExt cx="4143240" cy="2288520"/>
          </a:xfrm>
        </p:grpSpPr>
        <p:sp>
          <p:nvSpPr>
            <p:cNvPr id="1707" name="TextBox 28"/>
            <p:cNvSpPr/>
            <p:nvPr/>
          </p:nvSpPr>
          <p:spPr>
            <a:xfrm>
              <a:off x="4857840" y="2471760"/>
              <a:ext cx="41432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解：设爸爸的体重为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kg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08" name="组合 23615"/>
            <p:cNvGrpSpPr/>
            <p:nvPr/>
          </p:nvGrpSpPr>
          <p:grpSpPr>
            <a:xfrm>
              <a:off x="6012000" y="2741760"/>
              <a:ext cx="504720" cy="815040"/>
              <a:chOff x="6012000" y="2741760"/>
              <a:chExt cx="504720" cy="815040"/>
            </a:xfrm>
          </p:grpSpPr>
          <p:sp>
            <p:nvSpPr>
              <p:cNvPr id="1709" name="文本框 23616"/>
              <p:cNvSpPr/>
              <p:nvPr/>
            </p:nvSpPr>
            <p:spPr>
              <a:xfrm>
                <a:off x="6012000" y="30970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10" name="文本框 23617"/>
              <p:cNvSpPr/>
              <p:nvPr/>
            </p:nvSpPr>
            <p:spPr>
              <a:xfrm>
                <a:off x="6100920" y="2741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11" name="直接连接符 23618"/>
              <p:cNvSpPr/>
              <p:nvPr/>
            </p:nvSpPr>
            <p:spPr>
              <a:xfrm>
                <a:off x="6078600" y="31604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12" name="组合 23619"/>
            <p:cNvGrpSpPr/>
            <p:nvPr/>
          </p:nvGrpSpPr>
          <p:grpSpPr>
            <a:xfrm>
              <a:off x="5468760" y="3213000"/>
              <a:ext cx="504720" cy="815400"/>
              <a:chOff x="5468760" y="3213000"/>
              <a:chExt cx="504720" cy="815400"/>
            </a:xfrm>
          </p:grpSpPr>
          <p:sp>
            <p:nvSpPr>
              <p:cNvPr id="1713" name="文本框 23620"/>
              <p:cNvSpPr/>
              <p:nvPr/>
            </p:nvSpPr>
            <p:spPr>
              <a:xfrm>
                <a:off x="5468760" y="3568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14" name="文本框 23621"/>
              <p:cNvSpPr/>
              <p:nvPr/>
            </p:nvSpPr>
            <p:spPr>
              <a:xfrm>
                <a:off x="5557680" y="3213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15" name="直接连接符 23622"/>
              <p:cNvSpPr/>
              <p:nvPr/>
            </p:nvSpPr>
            <p:spPr>
              <a:xfrm>
                <a:off x="5535360" y="3632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16" name="组合 23623"/>
            <p:cNvGrpSpPr/>
            <p:nvPr/>
          </p:nvGrpSpPr>
          <p:grpSpPr>
            <a:xfrm>
              <a:off x="6877080" y="3660840"/>
              <a:ext cx="587520" cy="815400"/>
              <a:chOff x="6877080" y="3660840"/>
              <a:chExt cx="587520" cy="815400"/>
            </a:xfrm>
          </p:grpSpPr>
          <p:sp>
            <p:nvSpPr>
              <p:cNvPr id="1717" name="文本框 23624"/>
              <p:cNvSpPr/>
              <p:nvPr/>
            </p:nvSpPr>
            <p:spPr>
              <a:xfrm>
                <a:off x="6959520" y="401652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18" name="文本框 23625"/>
              <p:cNvSpPr/>
              <p:nvPr/>
            </p:nvSpPr>
            <p:spPr>
              <a:xfrm>
                <a:off x="6877080" y="3660840"/>
                <a:ext cx="58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19" name="直接连接符 23626"/>
              <p:cNvSpPr/>
              <p:nvPr/>
            </p:nvSpPr>
            <p:spPr>
              <a:xfrm>
                <a:off x="6940440" y="4079880"/>
                <a:ext cx="36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1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分析与解答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2" name="TextBox 114"/>
          <p:cNvSpPr/>
          <p:nvPr/>
        </p:nvSpPr>
        <p:spPr>
          <a:xfrm>
            <a:off x="214200" y="532908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结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3" name="TextBox 124"/>
          <p:cNvSpPr/>
          <p:nvPr/>
        </p:nvSpPr>
        <p:spPr>
          <a:xfrm>
            <a:off x="928800" y="53434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虽然两种解法不同，但是都是依据分数乘法的意义找到等量关系，用方程解答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24" name="组合 24581"/>
          <p:cNvGrpSpPr/>
          <p:nvPr/>
        </p:nvGrpSpPr>
        <p:grpSpPr>
          <a:xfrm>
            <a:off x="184320" y="1892160"/>
            <a:ext cx="9245520" cy="3457440"/>
            <a:chOff x="184320" y="1892160"/>
            <a:chExt cx="9245520" cy="3457440"/>
          </a:xfrm>
        </p:grpSpPr>
        <p:grpSp>
          <p:nvGrpSpPr>
            <p:cNvPr id="1725" name="组合 24582"/>
            <p:cNvGrpSpPr/>
            <p:nvPr/>
          </p:nvGrpSpPr>
          <p:grpSpPr>
            <a:xfrm>
              <a:off x="184320" y="1892160"/>
              <a:ext cx="9245520" cy="3457440"/>
              <a:chOff x="184320" y="1892160"/>
              <a:chExt cx="9245520" cy="3457440"/>
            </a:xfrm>
          </p:grpSpPr>
          <p:sp>
            <p:nvSpPr>
              <p:cNvPr id="1726" name="TextBox 14"/>
              <p:cNvSpPr/>
              <p:nvPr/>
            </p:nvSpPr>
            <p:spPr>
              <a:xfrm>
                <a:off x="184320" y="2036880"/>
                <a:ext cx="5572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  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爸爸的体重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－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小明比爸爸轻的部分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小明的体重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27" name="组合 24584"/>
              <p:cNvGrpSpPr/>
              <p:nvPr/>
            </p:nvGrpSpPr>
            <p:grpSpPr>
              <a:xfrm>
                <a:off x="693720" y="2817720"/>
                <a:ext cx="4143240" cy="2531880"/>
                <a:chOff x="693720" y="2817720"/>
                <a:chExt cx="4143240" cy="2531880"/>
              </a:xfrm>
            </p:grpSpPr>
            <p:sp>
              <p:nvSpPr>
                <p:cNvPr id="1728" name="TextBox 14"/>
                <p:cNvSpPr/>
                <p:nvPr/>
              </p:nvSpPr>
              <p:spPr>
                <a:xfrm>
                  <a:off x="693720" y="2817720"/>
                  <a:ext cx="4143240" cy="25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解：设爸爸的体重为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kg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。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  <a:p>
                  <a:pPr>
                    <a:lnSpc>
                      <a:spcPct val="1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   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－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宋体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  <a:p>
                  <a:pPr>
                    <a:lnSpc>
                      <a:spcPct val="1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             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  <a:p>
                  <a:pPr>
                    <a:lnSpc>
                      <a:spcPct val="1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              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5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×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  <a:p>
                  <a:pPr>
                    <a:lnSpc>
                      <a:spcPct val="1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              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7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729" name="组合 24586"/>
                <p:cNvGrpSpPr/>
                <p:nvPr/>
              </p:nvGrpSpPr>
              <p:grpSpPr>
                <a:xfrm>
                  <a:off x="1619280" y="3087720"/>
                  <a:ext cx="504720" cy="815400"/>
                  <a:chOff x="1619280" y="3087720"/>
                  <a:chExt cx="504720" cy="815400"/>
                </a:xfrm>
              </p:grpSpPr>
              <p:sp>
                <p:nvSpPr>
                  <p:cNvPr id="1730" name="文本框 24587"/>
                  <p:cNvSpPr/>
                  <p:nvPr/>
                </p:nvSpPr>
                <p:spPr>
                  <a:xfrm>
                    <a:off x="1619280" y="344340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31" name="文本框 24588"/>
                  <p:cNvSpPr/>
                  <p:nvPr/>
                </p:nvSpPr>
                <p:spPr>
                  <a:xfrm>
                    <a:off x="1708200" y="308772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8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32" name="直接连接符 24589"/>
                  <p:cNvSpPr/>
                  <p:nvPr/>
                </p:nvSpPr>
                <p:spPr>
                  <a:xfrm>
                    <a:off x="1685880" y="350676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733" name="组合 24590"/>
                <p:cNvGrpSpPr/>
                <p:nvPr/>
              </p:nvGrpSpPr>
              <p:grpSpPr>
                <a:xfrm>
                  <a:off x="1636560" y="3676680"/>
                  <a:ext cx="504720" cy="815400"/>
                  <a:chOff x="1636560" y="3676680"/>
                  <a:chExt cx="504720" cy="815400"/>
                </a:xfrm>
              </p:grpSpPr>
              <p:sp>
                <p:nvSpPr>
                  <p:cNvPr id="1734" name="文本框 24591"/>
                  <p:cNvSpPr/>
                  <p:nvPr/>
                </p:nvSpPr>
                <p:spPr>
                  <a:xfrm>
                    <a:off x="1636560" y="403236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35" name="文本框 24592"/>
                  <p:cNvSpPr/>
                  <p:nvPr/>
                </p:nvSpPr>
                <p:spPr>
                  <a:xfrm>
                    <a:off x="1725480" y="367668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7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36" name="直接连接符 24593"/>
                  <p:cNvSpPr/>
                  <p:nvPr/>
                </p:nvSpPr>
                <p:spPr>
                  <a:xfrm>
                    <a:off x="1703160" y="40957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737" name="组合 24594"/>
                <p:cNvGrpSpPr/>
                <p:nvPr/>
              </p:nvGrpSpPr>
              <p:grpSpPr>
                <a:xfrm>
                  <a:off x="2878200" y="4167360"/>
                  <a:ext cx="586800" cy="815040"/>
                  <a:chOff x="2878200" y="4167360"/>
                  <a:chExt cx="586800" cy="815040"/>
                </a:xfrm>
              </p:grpSpPr>
              <p:sp>
                <p:nvSpPr>
                  <p:cNvPr id="1738" name="文本框 24595"/>
                  <p:cNvSpPr/>
                  <p:nvPr/>
                </p:nvSpPr>
                <p:spPr>
                  <a:xfrm>
                    <a:off x="2960280" y="452268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7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39" name="文本框 24596"/>
                  <p:cNvSpPr/>
                  <p:nvPr/>
                </p:nvSpPr>
                <p:spPr>
                  <a:xfrm>
                    <a:off x="2878200" y="4167360"/>
                    <a:ext cx="580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40" name="直接连接符 24597"/>
                  <p:cNvSpPr/>
                  <p:nvPr/>
                </p:nvSpPr>
                <p:spPr>
                  <a:xfrm>
                    <a:off x="2941200" y="458604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1" name="组合 24598"/>
              <p:cNvGrpSpPr/>
              <p:nvPr/>
            </p:nvGrpSpPr>
            <p:grpSpPr>
              <a:xfrm>
                <a:off x="4643280" y="1892160"/>
                <a:ext cx="4786560" cy="815400"/>
                <a:chOff x="4643280" y="1892160"/>
                <a:chExt cx="4786560" cy="815400"/>
              </a:xfrm>
            </p:grpSpPr>
            <p:sp>
              <p:nvSpPr>
                <p:cNvPr id="1742" name="TextBox 28"/>
                <p:cNvSpPr/>
                <p:nvPr/>
              </p:nvSpPr>
              <p:spPr>
                <a:xfrm>
                  <a:off x="4643280" y="2058840"/>
                  <a:ext cx="4786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爸爸的体重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×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（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－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  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）＝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小明的体重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743" name="组合 24600"/>
                <p:cNvGrpSpPr/>
                <p:nvPr/>
              </p:nvGrpSpPr>
              <p:grpSpPr>
                <a:xfrm>
                  <a:off x="6877080" y="1892160"/>
                  <a:ext cx="504720" cy="815400"/>
                  <a:chOff x="6877080" y="1892160"/>
                  <a:chExt cx="504720" cy="815400"/>
                </a:xfrm>
              </p:grpSpPr>
              <p:sp>
                <p:nvSpPr>
                  <p:cNvPr id="1744" name="文本框 24601"/>
                  <p:cNvSpPr/>
                  <p:nvPr/>
                </p:nvSpPr>
                <p:spPr>
                  <a:xfrm>
                    <a:off x="6877080" y="22478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45" name="文本框 24602"/>
                  <p:cNvSpPr/>
                  <p:nvPr/>
                </p:nvSpPr>
                <p:spPr>
                  <a:xfrm>
                    <a:off x="6966000" y="189216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8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46" name="直接连接符 24603"/>
                  <p:cNvSpPr/>
                  <p:nvPr/>
                </p:nvSpPr>
                <p:spPr>
                  <a:xfrm>
                    <a:off x="6943680" y="23112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7" name="组合 24604"/>
              <p:cNvGrpSpPr/>
              <p:nvPr/>
            </p:nvGrpSpPr>
            <p:grpSpPr>
              <a:xfrm>
                <a:off x="4964040" y="2835360"/>
                <a:ext cx="4143600" cy="2288520"/>
                <a:chOff x="4964040" y="2835360"/>
                <a:chExt cx="4143600" cy="2288520"/>
              </a:xfrm>
            </p:grpSpPr>
            <p:sp>
              <p:nvSpPr>
                <p:cNvPr id="1748" name="TextBox 28"/>
                <p:cNvSpPr/>
                <p:nvPr/>
              </p:nvSpPr>
              <p:spPr>
                <a:xfrm>
                  <a:off x="4964040" y="2835360"/>
                  <a:ext cx="414360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解：设爸爸的体重为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kg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。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   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（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－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     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）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                      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                      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5×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                           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x</a:t>
                  </a: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7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749" name="组合 24606"/>
                <p:cNvGrpSpPr/>
                <p:nvPr/>
              </p:nvGrpSpPr>
              <p:grpSpPr>
                <a:xfrm>
                  <a:off x="6319800" y="3576600"/>
                  <a:ext cx="504720" cy="815400"/>
                  <a:chOff x="6319800" y="3576600"/>
                  <a:chExt cx="504720" cy="815400"/>
                </a:xfrm>
              </p:grpSpPr>
              <p:sp>
                <p:nvSpPr>
                  <p:cNvPr id="1750" name="文本框 24607"/>
                  <p:cNvSpPr/>
                  <p:nvPr/>
                </p:nvSpPr>
                <p:spPr>
                  <a:xfrm>
                    <a:off x="6319800" y="393228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51" name="文本框 24608"/>
                  <p:cNvSpPr/>
                  <p:nvPr/>
                </p:nvSpPr>
                <p:spPr>
                  <a:xfrm>
                    <a:off x="6408720" y="357660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7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52" name="直接连接符 24609"/>
                  <p:cNvSpPr/>
                  <p:nvPr/>
                </p:nvSpPr>
                <p:spPr>
                  <a:xfrm>
                    <a:off x="6386400" y="399564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753" name="组合 24610"/>
                <p:cNvGrpSpPr/>
                <p:nvPr/>
              </p:nvGrpSpPr>
              <p:grpSpPr>
                <a:xfrm>
                  <a:off x="7729560" y="4024440"/>
                  <a:ext cx="587520" cy="815040"/>
                  <a:chOff x="7729560" y="4024440"/>
                  <a:chExt cx="587520" cy="815040"/>
                </a:xfrm>
              </p:grpSpPr>
              <p:sp>
                <p:nvSpPr>
                  <p:cNvPr id="1754" name="文本框 24611"/>
                  <p:cNvSpPr/>
                  <p:nvPr/>
                </p:nvSpPr>
                <p:spPr>
                  <a:xfrm>
                    <a:off x="7812000" y="4379760"/>
                    <a:ext cx="505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7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55" name="文本框 24612"/>
                  <p:cNvSpPr/>
                  <p:nvPr/>
                </p:nvSpPr>
                <p:spPr>
                  <a:xfrm>
                    <a:off x="7729560" y="4024440"/>
                    <a:ext cx="581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5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756" name="直接连接符 24613"/>
                  <p:cNvSpPr/>
                  <p:nvPr/>
                </p:nvSpPr>
                <p:spPr>
                  <a:xfrm>
                    <a:off x="7792920" y="4443120"/>
                    <a:ext cx="3607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57" name="组合 24614"/>
            <p:cNvGrpSpPr/>
            <p:nvPr/>
          </p:nvGrpSpPr>
          <p:grpSpPr>
            <a:xfrm>
              <a:off x="6118200" y="3105000"/>
              <a:ext cx="504720" cy="815400"/>
              <a:chOff x="6118200" y="3105000"/>
              <a:chExt cx="504720" cy="815400"/>
            </a:xfrm>
          </p:grpSpPr>
          <p:sp>
            <p:nvSpPr>
              <p:cNvPr id="1758" name="文本框 24615"/>
              <p:cNvSpPr/>
              <p:nvPr/>
            </p:nvSpPr>
            <p:spPr>
              <a:xfrm>
                <a:off x="6118200" y="3460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9" name="文本框 24616"/>
              <p:cNvSpPr/>
              <p:nvPr/>
            </p:nvSpPr>
            <p:spPr>
              <a:xfrm>
                <a:off x="6207120" y="3105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0" name="直接连接符 24617"/>
              <p:cNvSpPr/>
              <p:nvPr/>
            </p:nvSpPr>
            <p:spPr>
              <a:xfrm>
                <a:off x="6184800" y="3524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2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三）回顾与反思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3" name="TextBox 8"/>
          <p:cNvSpPr/>
          <p:nvPr/>
        </p:nvSpPr>
        <p:spPr>
          <a:xfrm>
            <a:off x="385920" y="210996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4" name="TextBox 10"/>
          <p:cNvSpPr/>
          <p:nvPr/>
        </p:nvSpPr>
        <p:spPr>
          <a:xfrm>
            <a:off x="1174680" y="210996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刚才同学们用两种不同的方法求出了爸爸的体重，那么对不对呢？都可以怎样检查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65" name="组合 25605"/>
          <p:cNvGrpSpPr/>
          <p:nvPr/>
        </p:nvGrpSpPr>
        <p:grpSpPr>
          <a:xfrm>
            <a:off x="260280" y="2928960"/>
            <a:ext cx="4357800" cy="1675800"/>
            <a:chOff x="260280" y="2928960"/>
            <a:chExt cx="4357800" cy="1675800"/>
          </a:xfrm>
        </p:grpSpPr>
        <p:grpSp>
          <p:nvGrpSpPr>
            <p:cNvPr id="1766" name="组合 25606"/>
            <p:cNvGrpSpPr/>
            <p:nvPr/>
          </p:nvGrpSpPr>
          <p:grpSpPr>
            <a:xfrm>
              <a:off x="3936960" y="3201840"/>
              <a:ext cx="504720" cy="815400"/>
              <a:chOff x="3936960" y="3201840"/>
              <a:chExt cx="504720" cy="815400"/>
            </a:xfrm>
          </p:grpSpPr>
          <p:sp>
            <p:nvSpPr>
              <p:cNvPr id="1767" name="文本框 25607"/>
              <p:cNvSpPr/>
              <p:nvPr/>
            </p:nvSpPr>
            <p:spPr>
              <a:xfrm>
                <a:off x="3936960" y="3557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8" name="文本框 25608"/>
              <p:cNvSpPr/>
              <p:nvPr/>
            </p:nvSpPr>
            <p:spPr>
              <a:xfrm>
                <a:off x="4025880" y="3201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9" name="直接连接符 25609"/>
              <p:cNvSpPr/>
              <p:nvPr/>
            </p:nvSpPr>
            <p:spPr>
              <a:xfrm>
                <a:off x="4003560" y="36208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70" name="组合 25610"/>
            <p:cNvGrpSpPr/>
            <p:nvPr/>
          </p:nvGrpSpPr>
          <p:grpSpPr>
            <a:xfrm>
              <a:off x="260280" y="2928960"/>
              <a:ext cx="4357800" cy="1675800"/>
              <a:chOff x="260280" y="2928960"/>
              <a:chExt cx="4357800" cy="1675800"/>
            </a:xfrm>
          </p:grpSpPr>
          <p:sp>
            <p:nvSpPr>
              <p:cNvPr id="1771" name="TextBox 12"/>
              <p:cNvSpPr/>
              <p:nvPr/>
            </p:nvSpPr>
            <p:spPr>
              <a:xfrm>
                <a:off x="260280" y="2928960"/>
                <a:ext cx="169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预设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：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2" name="TextBox 14"/>
              <p:cNvSpPr/>
              <p:nvPr/>
            </p:nvSpPr>
            <p:spPr>
              <a:xfrm>
                <a:off x="546120" y="3357720"/>
                <a:ext cx="4000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看看小明的体重是不是爸爸的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3" name="TextBox 25"/>
              <p:cNvSpPr/>
              <p:nvPr/>
            </p:nvSpPr>
            <p:spPr>
              <a:xfrm>
                <a:off x="903240" y="3951360"/>
                <a:ext cx="371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5 ÷75 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774" name="组合 25614"/>
              <p:cNvGrpSpPr/>
              <p:nvPr/>
            </p:nvGrpSpPr>
            <p:grpSpPr>
              <a:xfrm>
                <a:off x="2174760" y="3789360"/>
                <a:ext cx="504720" cy="815400"/>
                <a:chOff x="2174760" y="3789360"/>
                <a:chExt cx="504720" cy="815400"/>
              </a:xfrm>
            </p:grpSpPr>
            <p:sp>
              <p:nvSpPr>
                <p:cNvPr id="1775" name="文本框 25615"/>
                <p:cNvSpPr/>
                <p:nvPr/>
              </p:nvSpPr>
              <p:spPr>
                <a:xfrm>
                  <a:off x="2174760" y="41450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6" name="文本框 25616"/>
                <p:cNvSpPr/>
                <p:nvPr/>
              </p:nvSpPr>
              <p:spPr>
                <a:xfrm>
                  <a:off x="2263680" y="3789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7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777" name="直接连接符 25617"/>
                <p:cNvSpPr/>
                <p:nvPr/>
              </p:nvSpPr>
              <p:spPr>
                <a:xfrm>
                  <a:off x="2241360" y="42084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1778" name="组合 25618"/>
          <p:cNvGrpSpPr/>
          <p:nvPr/>
        </p:nvGrpSpPr>
        <p:grpSpPr>
          <a:xfrm>
            <a:off x="4572000" y="2928960"/>
            <a:ext cx="4463640" cy="1653480"/>
            <a:chOff x="4572000" y="2928960"/>
            <a:chExt cx="4463640" cy="1653480"/>
          </a:xfrm>
        </p:grpSpPr>
        <p:sp>
          <p:nvSpPr>
            <p:cNvPr id="1779" name="TextBox 16"/>
            <p:cNvSpPr/>
            <p:nvPr/>
          </p:nvSpPr>
          <p:spPr>
            <a:xfrm>
              <a:off x="4572000" y="292896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0" name="TextBox 20"/>
            <p:cNvSpPr/>
            <p:nvPr/>
          </p:nvSpPr>
          <p:spPr>
            <a:xfrm>
              <a:off x="4857480" y="335772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看看小明的体重是不是比爸爸轻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81" name="TextBox 21"/>
            <p:cNvSpPr/>
            <p:nvPr/>
          </p:nvSpPr>
          <p:spPr>
            <a:xfrm>
              <a:off x="5143320" y="3929040"/>
              <a:ext cx="371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÷75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82" name="组合 25622"/>
            <p:cNvGrpSpPr/>
            <p:nvPr/>
          </p:nvGrpSpPr>
          <p:grpSpPr>
            <a:xfrm>
              <a:off x="8530920" y="3152880"/>
              <a:ext cx="504720" cy="815040"/>
              <a:chOff x="8530920" y="3152880"/>
              <a:chExt cx="504720" cy="815040"/>
            </a:xfrm>
          </p:grpSpPr>
          <p:sp>
            <p:nvSpPr>
              <p:cNvPr id="1783" name="文本框 25623"/>
              <p:cNvSpPr/>
              <p:nvPr/>
            </p:nvSpPr>
            <p:spPr>
              <a:xfrm>
                <a:off x="8530920" y="3508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4" name="文本框 25624"/>
              <p:cNvSpPr/>
              <p:nvPr/>
            </p:nvSpPr>
            <p:spPr>
              <a:xfrm>
                <a:off x="8619840" y="31528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5" name="直接连接符 25625"/>
              <p:cNvSpPr/>
              <p:nvPr/>
            </p:nvSpPr>
            <p:spPr>
              <a:xfrm>
                <a:off x="8597520" y="35715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86" name="组合 25626"/>
            <p:cNvGrpSpPr/>
            <p:nvPr/>
          </p:nvGrpSpPr>
          <p:grpSpPr>
            <a:xfrm>
              <a:off x="7500960" y="3767040"/>
              <a:ext cx="504720" cy="815400"/>
              <a:chOff x="7500960" y="3767040"/>
              <a:chExt cx="504720" cy="815400"/>
            </a:xfrm>
          </p:grpSpPr>
          <p:sp>
            <p:nvSpPr>
              <p:cNvPr id="1787" name="文本框 25627"/>
              <p:cNvSpPr/>
              <p:nvPr/>
            </p:nvSpPr>
            <p:spPr>
              <a:xfrm>
                <a:off x="7500960" y="4122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8" name="文本框 25628"/>
              <p:cNvSpPr/>
              <p:nvPr/>
            </p:nvSpPr>
            <p:spPr>
              <a:xfrm>
                <a:off x="7589880" y="37670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9" name="直接连接符 25629"/>
              <p:cNvSpPr/>
              <p:nvPr/>
            </p:nvSpPr>
            <p:spPr>
              <a:xfrm>
                <a:off x="7567560" y="41860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790" name="组合 25630"/>
          <p:cNvGrpSpPr/>
          <p:nvPr/>
        </p:nvGrpSpPr>
        <p:grpSpPr>
          <a:xfrm>
            <a:off x="260280" y="4437000"/>
            <a:ext cx="4285800" cy="1645560"/>
            <a:chOff x="260280" y="4437000"/>
            <a:chExt cx="4285800" cy="1645560"/>
          </a:xfrm>
        </p:grpSpPr>
        <p:sp>
          <p:nvSpPr>
            <p:cNvPr id="1791" name="TextBox 31"/>
            <p:cNvSpPr/>
            <p:nvPr/>
          </p:nvSpPr>
          <p:spPr>
            <a:xfrm>
              <a:off x="545760" y="4872240"/>
              <a:ext cx="40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看看小明的体重是不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千克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2" name="TextBox 32"/>
            <p:cNvSpPr/>
            <p:nvPr/>
          </p:nvSpPr>
          <p:spPr>
            <a:xfrm>
              <a:off x="260280" y="4437000"/>
              <a:ext cx="15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3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3" name="TextBox 33"/>
            <p:cNvSpPr/>
            <p:nvPr/>
          </p:nvSpPr>
          <p:spPr>
            <a:xfrm>
              <a:off x="902880" y="5437440"/>
              <a:ext cx="285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5 ×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94" name="组合 25634"/>
            <p:cNvGrpSpPr/>
            <p:nvPr/>
          </p:nvGrpSpPr>
          <p:grpSpPr>
            <a:xfrm>
              <a:off x="2192040" y="5267520"/>
              <a:ext cx="504360" cy="815040"/>
              <a:chOff x="2192040" y="5267520"/>
              <a:chExt cx="504360" cy="815040"/>
            </a:xfrm>
          </p:grpSpPr>
          <p:sp>
            <p:nvSpPr>
              <p:cNvPr id="1795" name="文本框 25635"/>
              <p:cNvSpPr/>
              <p:nvPr/>
            </p:nvSpPr>
            <p:spPr>
              <a:xfrm>
                <a:off x="2192040" y="56228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6" name="文本框 25636"/>
              <p:cNvSpPr/>
              <p:nvPr/>
            </p:nvSpPr>
            <p:spPr>
              <a:xfrm>
                <a:off x="2280600" y="526752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7" name="直接连接符 25637"/>
              <p:cNvSpPr/>
              <p:nvPr/>
            </p:nvSpPr>
            <p:spPr>
              <a:xfrm>
                <a:off x="2258280" y="56862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99" name="组合 26626"/>
          <p:cNvGrpSpPr/>
          <p:nvPr/>
        </p:nvGrpSpPr>
        <p:grpSpPr>
          <a:xfrm>
            <a:off x="1428840" y="2714760"/>
            <a:ext cx="5051160" cy="2127240"/>
            <a:chOff x="1428840" y="2714760"/>
            <a:chExt cx="5051160" cy="2127240"/>
          </a:xfrm>
        </p:grpSpPr>
        <p:pic>
          <p:nvPicPr>
            <p:cNvPr id="1800" name="左大括号 54" descr=""/>
            <p:cNvPicPr/>
            <p:nvPr/>
          </p:nvPicPr>
          <p:blipFill>
            <a:blip r:embed="rId1"/>
            <a:stretch/>
          </p:blipFill>
          <p:spPr>
            <a:xfrm>
              <a:off x="4995720" y="3371760"/>
              <a:ext cx="1438560" cy="36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1" name="组合 26628"/>
            <p:cNvGrpSpPr/>
            <p:nvPr/>
          </p:nvGrpSpPr>
          <p:grpSpPr>
            <a:xfrm>
              <a:off x="1428840" y="2714760"/>
              <a:ext cx="5051160" cy="2127240"/>
              <a:chOff x="1428840" y="2714760"/>
              <a:chExt cx="5051160" cy="2127240"/>
            </a:xfrm>
          </p:grpSpPr>
          <p:pic>
            <p:nvPicPr>
              <p:cNvPr id="1802" name="Object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5800680" y="3097080"/>
                <a:ext cx="177840" cy="457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3" name="组合 62"/>
              <p:cNvGrpSpPr/>
              <p:nvPr/>
            </p:nvGrpSpPr>
            <p:grpSpPr>
              <a:xfrm>
                <a:off x="1428840" y="2714760"/>
                <a:ext cx="5051160" cy="2127240"/>
                <a:chOff x="1428840" y="2714760"/>
                <a:chExt cx="5051160" cy="2127240"/>
              </a:xfrm>
            </p:grpSpPr>
            <p:sp>
              <p:nvSpPr>
                <p:cNvPr id="1804" name="左大括号 52"/>
                <p:cNvSpPr/>
                <p:nvPr/>
              </p:nvSpPr>
              <p:spPr>
                <a:xfrm rot="5400000">
                  <a:off x="3850560" y="633960"/>
                  <a:ext cx="158760" cy="5001120"/>
                </a:xfrm>
                <a:custGeom>
                  <a:avLst/>
                  <a:gdLst>
                    <a:gd name="textAreaLeft" fmla="*/ 101520 w 158760"/>
                    <a:gd name="textAreaRight" fmla="*/ 159120 w 158760"/>
                    <a:gd name="textAreaTop" fmla="*/ 16560 h 5001120"/>
                    <a:gd name="textAreaBottom" fmla="*/ 4984560 h 5001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116"/>
                        <a:pt x="10800" y="231"/>
                      </a:cubicBezTo>
                      <a:lnTo>
                        <a:pt x="10800" y="10569"/>
                      </a:lnTo>
                      <a:cubicBezTo>
                        <a:pt x="10800" y="10685"/>
                        <a:pt x="5400" y="10800"/>
                        <a:pt x="0" y="10800"/>
                      </a:cubicBezTo>
                      <a:cubicBezTo>
                        <a:pt x="5400" y="10800"/>
                        <a:pt x="10800" y="10916"/>
                        <a:pt x="10800" y="11031"/>
                      </a:cubicBezTo>
                      <a:lnTo>
                        <a:pt x="10800" y="21369"/>
                      </a:lnTo>
                      <a:cubicBezTo>
                        <a:pt x="10800" y="21485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vert="eaVert" rot="10800000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805" name="组合 61"/>
                <p:cNvGrpSpPr/>
                <p:nvPr/>
              </p:nvGrpSpPr>
              <p:grpSpPr>
                <a:xfrm>
                  <a:off x="1428840" y="2714760"/>
                  <a:ext cx="5051160" cy="2127240"/>
                  <a:chOff x="1428840" y="2714760"/>
                  <a:chExt cx="5051160" cy="2127240"/>
                </a:xfrm>
              </p:grpSpPr>
              <p:grpSp>
                <p:nvGrpSpPr>
                  <p:cNvPr id="1806" name="组合 51"/>
                  <p:cNvGrpSpPr/>
                  <p:nvPr/>
                </p:nvGrpSpPr>
                <p:grpSpPr>
                  <a:xfrm>
                    <a:off x="1428840" y="3514320"/>
                    <a:ext cx="5011920" cy="137160"/>
                    <a:chOff x="1428840" y="3514320"/>
                    <a:chExt cx="5011920" cy="137160"/>
                  </a:xfrm>
                </p:grpSpPr>
                <p:sp>
                  <p:nvSpPr>
                    <p:cNvPr id="1807" name="直接连接符 35"/>
                    <p:cNvSpPr/>
                    <p:nvPr/>
                  </p:nvSpPr>
                  <p:spPr>
                    <a:xfrm>
                      <a:off x="1429560" y="3650040"/>
                      <a:ext cx="5011200" cy="14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08" name="直接连接符 37"/>
                    <p:cNvSpPr/>
                    <p:nvPr/>
                  </p:nvSpPr>
                  <p:spPr>
                    <a:xfrm flipH="1">
                      <a:off x="1428840" y="3515040"/>
                      <a:ext cx="1440" cy="135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09" name="直接连接符 38"/>
                    <p:cNvSpPr/>
                    <p:nvPr/>
                  </p:nvSpPr>
                  <p:spPr>
                    <a:xfrm flipH="1">
                      <a:off x="4291560" y="3514320"/>
                      <a:ext cx="1440" cy="135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10" name="直接连接符 39"/>
                    <p:cNvSpPr/>
                    <p:nvPr/>
                  </p:nvSpPr>
                  <p:spPr>
                    <a:xfrm flipH="1">
                      <a:off x="2144520" y="3515040"/>
                      <a:ext cx="1440" cy="135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11" name="直接连接符 41"/>
                    <p:cNvSpPr/>
                    <p:nvPr/>
                  </p:nvSpPr>
                  <p:spPr>
                    <a:xfrm flipH="1">
                      <a:off x="2860560" y="3515040"/>
                      <a:ext cx="1440" cy="135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12" name="直接连接符 42"/>
                    <p:cNvSpPr/>
                    <p:nvPr/>
                  </p:nvSpPr>
                  <p:spPr>
                    <a:xfrm flipH="1">
                      <a:off x="5007600" y="3514320"/>
                      <a:ext cx="1440" cy="135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13" name="直接连接符 43"/>
                    <p:cNvSpPr/>
                    <p:nvPr/>
                  </p:nvSpPr>
                  <p:spPr>
                    <a:xfrm flipH="1">
                      <a:off x="3576600" y="3515040"/>
                      <a:ext cx="1440" cy="135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14" name="直接连接符 46"/>
                    <p:cNvSpPr/>
                    <p:nvPr/>
                  </p:nvSpPr>
                  <p:spPr>
                    <a:xfrm flipH="1">
                      <a:off x="6439320" y="3514320"/>
                      <a:ext cx="1440" cy="135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815" name="直接连接符 48"/>
                    <p:cNvSpPr/>
                    <p:nvPr/>
                  </p:nvSpPr>
                  <p:spPr>
                    <a:xfrm flipH="1">
                      <a:off x="5724360" y="3515040"/>
                      <a:ext cx="1440" cy="135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816" name="TextBox 53"/>
                  <p:cNvSpPr/>
                  <p:nvPr/>
                </p:nvSpPr>
                <p:spPr>
                  <a:xfrm>
                    <a:off x="3506040" y="2714760"/>
                    <a:ext cx="1001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“</a:t>
                    </a: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1</a:t>
                    </a: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”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17" name="TextBox 56"/>
                  <p:cNvSpPr/>
                  <p:nvPr/>
                </p:nvSpPr>
                <p:spPr>
                  <a:xfrm>
                    <a:off x="5295600" y="3144960"/>
                    <a:ext cx="1073520" cy="53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还剩</a:t>
                    </a: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18" name="左大括号 57"/>
                  <p:cNvSpPr/>
                  <p:nvPr/>
                </p:nvSpPr>
                <p:spPr>
                  <a:xfrm rot="16200000">
                    <a:off x="3116520" y="2005920"/>
                    <a:ext cx="203400" cy="3579120"/>
                  </a:xfrm>
                  <a:custGeom>
                    <a:avLst/>
                    <a:gdLst>
                      <a:gd name="textAreaLeft" fmla="*/ 129960 w 203400"/>
                      <a:gd name="textAreaRight" fmla="*/ 203760 w 203400"/>
                      <a:gd name="textAreaTop" fmla="*/ 22320 h 3579120"/>
                      <a:gd name="textAreaBottom" fmla="*/ 3556800 h 3579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0"/>
                          <a:pt x="10800" y="219"/>
                          <a:pt x="10800" y="437"/>
                        </a:cubicBezTo>
                        <a:lnTo>
                          <a:pt x="10800" y="10363"/>
                        </a:lnTo>
                        <a:cubicBezTo>
                          <a:pt x="10800" y="10582"/>
                          <a:pt x="5400" y="10800"/>
                          <a:pt x="0" y="10800"/>
                        </a:cubicBezTo>
                        <a:cubicBezTo>
                          <a:pt x="5400" y="10800"/>
                          <a:pt x="10800" y="11019"/>
                          <a:pt x="10800" y="11237"/>
                        </a:cubicBezTo>
                        <a:lnTo>
                          <a:pt x="10800" y="21163"/>
                        </a:lnTo>
                        <a:cubicBezTo>
                          <a:pt x="10800" y="21382"/>
                          <a:pt x="16200" y="21600"/>
                          <a:pt x="21600" y="2160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819" name="TextBox 58"/>
                  <p:cNvSpPr/>
                  <p:nvPr/>
                </p:nvSpPr>
                <p:spPr>
                  <a:xfrm>
                    <a:off x="2718720" y="3870360"/>
                    <a:ext cx="1073520" cy="97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读了</a:t>
                    </a:r>
                    <a:r>
                      <a: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35</a:t>
                    </a:r>
                    <a:r>
                      <a:rPr b="0" i="1" lang="zh-CN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页</a:t>
                    </a: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pic>
                <p:nvPicPr>
                  <p:cNvPr id="1820" name="左大括号 5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0440" y="4071600"/>
                    <a:ext cx="5029560" cy="2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1821" name="TextBox 60"/>
            <p:cNvSpPr/>
            <p:nvPr/>
          </p:nvSpPr>
          <p:spPr>
            <a:xfrm>
              <a:off x="3645000" y="4286160"/>
              <a:ext cx="10713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？页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22" name="组合 26649"/>
          <p:cNvGrpSpPr/>
          <p:nvPr/>
        </p:nvGrpSpPr>
        <p:grpSpPr>
          <a:xfrm>
            <a:off x="755640" y="1593720"/>
            <a:ext cx="7597800" cy="1978200"/>
            <a:chOff x="755640" y="1593720"/>
            <a:chExt cx="7597800" cy="1978200"/>
          </a:xfrm>
        </p:grpSpPr>
        <p:sp>
          <p:nvSpPr>
            <p:cNvPr id="1823" name="TextBox 16"/>
            <p:cNvSpPr/>
            <p:nvPr/>
          </p:nvSpPr>
          <p:spPr>
            <a:xfrm>
              <a:off x="755640" y="1593720"/>
              <a:ext cx="7143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这本课外读物一共有多少页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824" name="图片 26651" descr="37"/>
            <p:cNvPicPr/>
            <p:nvPr/>
          </p:nvPicPr>
          <p:blipFill>
            <a:blip r:embed="rId4"/>
            <a:stretch/>
          </p:blipFill>
          <p:spPr>
            <a:xfrm>
              <a:off x="6691320" y="1773360"/>
              <a:ext cx="166212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5" name="AutoShape 27"/>
            <p:cNvSpPr/>
            <p:nvPr/>
          </p:nvSpPr>
          <p:spPr>
            <a:xfrm>
              <a:off x="1620720" y="1628640"/>
              <a:ext cx="5688000" cy="649440"/>
            </a:xfrm>
            <a:prstGeom prst="wedgeRoundRectCallout">
              <a:avLst>
                <a:gd name="adj1" fmla="val 51537"/>
                <a:gd name="adj2" fmla="val 3362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这本课外读物我读了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页，还剩下      没读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26" name="组合 26653"/>
          <p:cNvGrpSpPr/>
          <p:nvPr/>
        </p:nvGrpSpPr>
        <p:grpSpPr>
          <a:xfrm>
            <a:off x="5819760" y="1521000"/>
            <a:ext cx="511200" cy="815040"/>
            <a:chOff x="5819760" y="1521000"/>
            <a:chExt cx="511200" cy="815040"/>
          </a:xfrm>
        </p:grpSpPr>
        <p:sp>
          <p:nvSpPr>
            <p:cNvPr id="1827" name="文本框 26654"/>
            <p:cNvSpPr/>
            <p:nvPr/>
          </p:nvSpPr>
          <p:spPr>
            <a:xfrm>
              <a:off x="5826240" y="1876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28" name="文本框 26655"/>
            <p:cNvSpPr/>
            <p:nvPr/>
          </p:nvSpPr>
          <p:spPr>
            <a:xfrm>
              <a:off x="5819760" y="1521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29" name="直接连接符 26656"/>
            <p:cNvSpPr/>
            <p:nvPr/>
          </p:nvSpPr>
          <p:spPr>
            <a:xfrm>
              <a:off x="5835600" y="19400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30" name="组合 26657"/>
          <p:cNvGrpSpPr/>
          <p:nvPr/>
        </p:nvGrpSpPr>
        <p:grpSpPr>
          <a:xfrm>
            <a:off x="468360" y="4292640"/>
            <a:ext cx="3929040" cy="2437560"/>
            <a:chOff x="468360" y="4292640"/>
            <a:chExt cx="3929040" cy="2437560"/>
          </a:xfrm>
        </p:grpSpPr>
        <p:sp>
          <p:nvSpPr>
            <p:cNvPr id="1831" name="TextBox 21"/>
            <p:cNvSpPr/>
            <p:nvPr/>
          </p:nvSpPr>
          <p:spPr>
            <a:xfrm>
              <a:off x="468360" y="4292640"/>
              <a:ext cx="17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32" name="组合 26659"/>
            <p:cNvGrpSpPr/>
            <p:nvPr/>
          </p:nvGrpSpPr>
          <p:grpSpPr>
            <a:xfrm>
              <a:off x="468360" y="4716360"/>
              <a:ext cx="3929040" cy="2013840"/>
              <a:chOff x="468360" y="4716360"/>
              <a:chExt cx="3929040" cy="2013840"/>
            </a:xfrm>
          </p:grpSpPr>
          <p:sp>
            <p:nvSpPr>
              <p:cNvPr id="1833" name="TextBox 22"/>
              <p:cNvSpPr/>
              <p:nvPr/>
            </p:nvSpPr>
            <p:spPr>
              <a:xfrm>
                <a:off x="468360" y="4716360"/>
                <a:ext cx="3929040" cy="201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解：设这本课外读物一共有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宋体"/>
                  </a:rPr>
                  <a:t>x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宋体"/>
                    <a:ea typeface="宋体"/>
                  </a:rPr>
                  <a:t>页。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   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x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－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x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            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x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                  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楷体_GB2312"/>
                  </a:rPr>
                  <a:t>x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834" name="组合 26661"/>
              <p:cNvGrpSpPr/>
              <p:nvPr/>
            </p:nvGrpSpPr>
            <p:grpSpPr>
              <a:xfrm>
                <a:off x="1531800" y="4991040"/>
                <a:ext cx="511200" cy="815040"/>
                <a:chOff x="1531800" y="4991040"/>
                <a:chExt cx="511200" cy="815040"/>
              </a:xfrm>
            </p:grpSpPr>
            <p:sp>
              <p:nvSpPr>
                <p:cNvPr id="1835" name="文本框 26662"/>
                <p:cNvSpPr/>
                <p:nvPr/>
              </p:nvSpPr>
              <p:spPr>
                <a:xfrm>
                  <a:off x="1538280" y="53463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7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36" name="文本框 26663"/>
                <p:cNvSpPr/>
                <p:nvPr/>
              </p:nvSpPr>
              <p:spPr>
                <a:xfrm>
                  <a:off x="1531800" y="49910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37" name="直接连接符 26664"/>
                <p:cNvSpPr/>
                <p:nvPr/>
              </p:nvSpPr>
              <p:spPr>
                <a:xfrm>
                  <a:off x="1547640" y="54100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838" name="组合 26665"/>
              <p:cNvGrpSpPr/>
              <p:nvPr/>
            </p:nvGrpSpPr>
            <p:grpSpPr>
              <a:xfrm>
                <a:off x="1479600" y="5607000"/>
                <a:ext cx="511200" cy="815040"/>
                <a:chOff x="1479600" y="5607000"/>
                <a:chExt cx="511200" cy="815040"/>
              </a:xfrm>
            </p:grpSpPr>
            <p:sp>
              <p:nvSpPr>
                <p:cNvPr id="1839" name="文本框 26666"/>
                <p:cNvSpPr/>
                <p:nvPr/>
              </p:nvSpPr>
              <p:spPr>
                <a:xfrm>
                  <a:off x="1486080" y="59623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7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40" name="文本框 26667"/>
                <p:cNvSpPr/>
                <p:nvPr/>
              </p:nvSpPr>
              <p:spPr>
                <a:xfrm>
                  <a:off x="1479600" y="56070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5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841" name="直接连接符 26668"/>
                <p:cNvSpPr/>
                <p:nvPr/>
              </p:nvSpPr>
              <p:spPr>
                <a:xfrm>
                  <a:off x="1495440" y="60260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1842" name="组合 26669"/>
          <p:cNvGrpSpPr/>
          <p:nvPr/>
        </p:nvGrpSpPr>
        <p:grpSpPr>
          <a:xfrm>
            <a:off x="4500720" y="4257720"/>
            <a:ext cx="3958920" cy="2270880"/>
            <a:chOff x="4500720" y="4257720"/>
            <a:chExt cx="3958920" cy="2270880"/>
          </a:xfrm>
        </p:grpSpPr>
        <p:sp>
          <p:nvSpPr>
            <p:cNvPr id="1843" name="TextBox 30"/>
            <p:cNvSpPr/>
            <p:nvPr/>
          </p:nvSpPr>
          <p:spPr>
            <a:xfrm>
              <a:off x="4500720" y="4257720"/>
              <a:ext cx="175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44" name="TextBox 31"/>
            <p:cNvSpPr/>
            <p:nvPr/>
          </p:nvSpPr>
          <p:spPr>
            <a:xfrm>
              <a:off x="4500720" y="4697280"/>
              <a:ext cx="3958920" cy="18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解：设这本课外读物一共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页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－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            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x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45" name="组合 26672"/>
            <p:cNvGrpSpPr/>
            <p:nvPr/>
          </p:nvGrpSpPr>
          <p:grpSpPr>
            <a:xfrm>
              <a:off x="5862600" y="4963680"/>
              <a:ext cx="511200" cy="815040"/>
              <a:chOff x="5862600" y="4963680"/>
              <a:chExt cx="511200" cy="815040"/>
            </a:xfrm>
          </p:grpSpPr>
          <p:sp>
            <p:nvSpPr>
              <p:cNvPr id="1846" name="文本框 26673"/>
              <p:cNvSpPr/>
              <p:nvPr/>
            </p:nvSpPr>
            <p:spPr>
              <a:xfrm>
                <a:off x="5869080" y="5319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47" name="文本框 26674"/>
              <p:cNvSpPr/>
              <p:nvPr/>
            </p:nvSpPr>
            <p:spPr>
              <a:xfrm>
                <a:off x="5862600" y="4963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48" name="直接连接符 26675"/>
              <p:cNvSpPr/>
              <p:nvPr/>
            </p:nvSpPr>
            <p:spPr>
              <a:xfrm>
                <a:off x="5878440" y="53827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49" name="组合 26676"/>
            <p:cNvGrpSpPr/>
            <p:nvPr/>
          </p:nvGrpSpPr>
          <p:grpSpPr>
            <a:xfrm>
              <a:off x="6022800" y="5462280"/>
              <a:ext cx="511200" cy="815040"/>
              <a:chOff x="6022800" y="5462280"/>
              <a:chExt cx="511200" cy="815040"/>
            </a:xfrm>
          </p:grpSpPr>
          <p:sp>
            <p:nvSpPr>
              <p:cNvPr id="1850" name="文本框 26677"/>
              <p:cNvSpPr/>
              <p:nvPr/>
            </p:nvSpPr>
            <p:spPr>
              <a:xfrm>
                <a:off x="6029280" y="5817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1" name="文本框 26678"/>
              <p:cNvSpPr/>
              <p:nvPr/>
            </p:nvSpPr>
            <p:spPr>
              <a:xfrm>
                <a:off x="6022800" y="5462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2" name="直接连接符 26679"/>
              <p:cNvSpPr/>
              <p:nvPr/>
            </p:nvSpPr>
            <p:spPr>
              <a:xfrm>
                <a:off x="6038640" y="58813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6:38Z</dcterms:modified>
  <cp:revision>3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